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9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24.jpeg" ContentType="image/jpeg"/>
  <Override PartName="/ppt/media/image3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1388-4D9D-4285-969A-00CEBEDC0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0F29-AE94-4068-B04C-1220B7800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555661-095E-4664-9D37-A59A7141A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3CC370-6BD0-47E7-B608-987AD3E39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73D39F-D084-4EAC-8EDE-248CE37CD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87846C-25BA-44CE-8241-E7C0556B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B5B213-B163-4C3A-97BE-BE0FF0D0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6C3932-4E27-445B-BCB4-B6890394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9B684B-DDCD-4464-B78B-C0A641065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97EC22-9060-43FA-9477-D05DBFD14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42BAD4-ECDB-4467-BF28-C02C1DCF9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82BD32-6866-41B5-BF9D-61690A7FB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BF5B-2A13-4214-9BCF-565A823BA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4ED38F-7C94-4BE2-8AFF-D8ABBB5EE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E466AC-35A0-4A1D-8F5F-B819CBAC2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B9C0E5-AA57-4064-9796-6A78643BC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0EE569-DA6B-444B-97AA-44AB10EB9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6B947D-2430-42F7-A37D-353C6F45E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264CA2-F3F5-448E-B8FE-4EFD6C16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4E8E30-55F7-43BD-9076-7D9FCAD6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F16710-93D8-471D-8849-85FF98DE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738E07-2D58-4B17-9789-498812F9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C13795-96D5-41D3-AB23-FC5441644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F97E-9558-432F-B3D9-16832D488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A0DDA0-8F2A-4767-8672-2CC61A3D4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14C19E-3762-4A7E-80A6-FAC3D02CF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731AC6-18C0-47FA-BAE1-ED0E4F05B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0E78D4-D8DC-41F9-B131-4A5DCD9BC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B9BA1D-E17E-4CB5-AB31-BCA31CB31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22002A-21E4-4B16-9ADB-1D2880022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B3AFF5-177A-403B-B6ED-3512F8AB6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B0A062-A0AD-47FA-85DC-9B8E5543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2C8E35-D9B0-4206-8EBA-41D30CA6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867764-568A-42BC-B55B-AEF68BF0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554E2-ADAA-4B51-B7CB-15D862593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38A23E-A2D6-4D12-8E52-19BA7CA52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92C95C-5D2F-4953-A408-032A566D7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203747-6A86-4949-9D54-DBD8F50E0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235949-9050-47E8-9413-EC69349A2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99C344-7339-4B3C-9F8E-54D35DE0A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0CA5EC-D4FF-4094-B1DB-D89910FBB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E1C3C1-43C8-4781-9A80-8A957B28F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4B36AA-33CA-480C-AA77-4B98B0FA2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61A6B9-A849-473D-8344-72DC86FA1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FDD151-DC93-4B85-A778-BB0EE530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F3312-2B81-460B-825F-65EDC0A74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C1B5FB-5772-4126-8FE2-7CCF3A4B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B1B956-7AC9-4625-A3C6-81F8F9E9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0DF65C-3B41-4BE4-8F60-A8CAAD976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DFAE7C-8248-421C-B3D8-391F9ED2D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760A0E-CBBB-47F1-928C-535CF4428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24277-469B-4AFE-B123-F7E23778B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89CF7-D754-426F-8371-D61E36A0F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AE82E-CA1E-4721-94BE-1690B52A2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35AB4-A0CD-4152-B435-EDA58B558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12A43-0DC3-472C-925E-4DBCC811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9CEA-EFAF-4A39-B940-3D8A0E80E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BE42B-C1DF-485B-ABB8-F340FE67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6206A-D4C3-40F4-BEA3-75418C4C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3787B-3490-4435-A409-03CC84000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CF2D9-71C0-46BD-87F6-E4DAE88D4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D8665-526D-4077-8AA5-84C5E369D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4F156-3C7C-402A-93ED-CAE7D8C0D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2B38C-05DF-4B06-8FD6-8DAB96AA2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BCD18-02D3-474A-97B9-A43DC9D64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E399A-D14D-40EB-90CD-6937629F1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6A74C-6E99-4640-8C59-1EF3EE48F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225B-EC3F-4145-ADCA-AB4DD1819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CFFFB-E536-4CAE-84A6-691F48B88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92A9B-B34A-4F86-A1AB-D5DA6CD9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40244-5E19-4D6D-9177-1DCEADF4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FA15E-B7E6-4D92-9EFA-B1B0E973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FBA2B-64BF-4FA2-855C-11F14B5BC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5354B-ECEE-4BE3-8D00-BDF95111F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7D25C-2DA0-45D6-A29C-2CDF9A2ED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9D43D-1A74-40D4-9DE3-7FB6BD1F1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E3467-530C-43A3-9137-C93164310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4B083-5A1F-4D24-8D35-3FAF86DFE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B36D-2B64-4DF7-A7A6-469DEAEC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31E9B-3A73-4F05-AD26-EDEBE3348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31C0E-F388-4A06-BD61-1697E6472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259C1-F9F4-4A4D-A76E-A417C8AE3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4A48C-E8F1-42E2-8F8F-91E77C1E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93A13-F6E4-4B16-BB3C-FE62BBA8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A43C7-76BD-4280-9B7D-3ED4E6D3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CFF87-74DA-4ECC-A934-640FB6E02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383A9-07D4-4309-950D-43BFDBA96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8978E-00AE-42DB-9947-5FAF53C81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C66D9-5763-4FBB-8B9C-B95C65E5A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7456-2585-441A-B6D6-76F6B319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EEDB9-F6E7-47D8-9580-1132EF4FF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C4801-B943-4148-AFA3-969E76363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B7DB4-6672-427E-8080-09E8453B1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E693B-8B2D-4758-B150-288E7FB14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37B2E-6D19-4492-9699-6C682040D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55452-3774-4B7D-B047-0051BFAD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7435C-9FCC-4593-9CD3-F6875A01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1E73D-DEF8-4993-9F9F-2564C35F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A5ED4-5515-42F5-92BF-5BBFFE1A6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9716B-52DC-40B5-8984-01CA06C1C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79A3-776F-440B-ACAB-4BA9BEC8E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E5452-48F6-46C3-879F-06980FEAB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CE422-6A95-4F3F-BF2B-BFD7686B3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2E122-BBF0-4053-827F-4C07A4E17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8B78B-4179-40FF-A0EC-DACE0818E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82564-0770-4841-9674-FC1E82B8C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42077-7B6C-4A1A-A22A-53716BECE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ECF22E-5356-4641-A75F-B11D26B5D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A18E2-1A7E-44E5-812D-48F6C72F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675930-04CD-42D2-A4D5-342B2DEB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6C9C4A-ABAA-40F2-A1FD-34A587F4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6DB0-E869-4DF3-8C9F-924668DB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A80DE-88B0-4F25-991F-ACD988E9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A53CDE-188B-4ADD-AF87-30C1DBBF8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7859F-ACB1-4A6F-9E32-A15C11A7B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00960B-3A3A-4484-B7B7-EDD8FDE14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9FD49-1721-4B41-963E-EC1D2F9A1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ECDDB-4A29-4179-96A6-4F8EA0492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A681E1-6BFF-49BE-AE40-A102D0E73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38CCCF-03D7-468D-920C-12470D73F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FD4448-1E2F-4639-A1E9-924FD6B20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FB571-DF53-41E0-AB9E-49FEEBD6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22F7-2CBD-42E9-8378-1FECAA3F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9F2D9E-793E-40FA-B004-8E4F8B0B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17953B-62EE-4C93-806F-1E410732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A9F8F-F3CE-4A56-AD7D-661477B07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BD5DF3-A77B-4986-B341-3917D5EA5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2AEC0-CAEF-4A9D-B0AC-A2C0DDBF4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A84F7-99D0-4B25-AFC8-372A68FC8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907761-183C-4E5B-BBB0-30409B0EF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9F2228-26E4-4E6B-826C-5F798BCD1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919400-29FE-4D46-B756-574489439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499426-8EF0-45CD-A4C7-933352BC5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7191-EE04-43D9-85C4-AF5BCA6E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04251B-B5B7-4A2E-ADAA-072E07DD5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60B640-8E92-4D53-826E-D18DBC8B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E5E606-C7A3-4739-9F65-3BF7C5CB4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349742-9DB7-4DD3-A776-7DFEC353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492971-CF27-4C04-B0D9-A92ABD934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13EBD4-BD9E-4828-B1AD-0EFD36A75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5AE1AA-BB13-41BA-A57D-D26423EEC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7BE504-46D3-4A3E-8EF8-CCB1D8DCC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7E86B3-03FC-4EA9-AF76-8BF1DD96D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477647-81B6-4205-8A60-CC8EE8F63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2240B-4144-428D-BD77-458DE87B2B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293B5-EA52-4060-B9FB-02AEED656F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07542-1CA0-4CB4-8ED6-86F047C0C6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6B80C-B0B2-4F4B-8EC5-154B7ED392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454B7-79C4-4AFF-8A36-D162200FBA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7312E-B47B-4DFB-9686-7B472B5C0D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2360C-D114-4D41-B96B-7AEDE02516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3BC72-AA10-4F61-B8C8-9076110357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ABEE5-3CD7-4B92-AB35-21CCEBBBF7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F10F-F34A-4C9F-A3D5-D9E5B9B000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B3B8C-7A5D-4AC6-8BE4-B80D0DA7DC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54753-5610-4776-B809-1FFA058919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file:///tmp/home/.config/libreoffice/4/user/gallery/drumroll.wav" TargetMode="External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" Target="slide13.xml"/><Relationship Id="rId4" Type="http://schemas.openxmlformats.org/officeDocument/2006/relationships/slide" Target="slide15.xml"/><Relationship Id="rId5" Type="http://schemas.openxmlformats.org/officeDocument/2006/relationships/slide" Target="slide17.xml"/><Relationship Id="rId6" Type="http://schemas.openxmlformats.org/officeDocument/2006/relationships/slide" Target="slide29.xml"/><Relationship Id="rId7" Type="http://schemas.openxmlformats.org/officeDocument/2006/relationships/slide" Target="slide33.xml"/><Relationship Id="rId8" Type="http://schemas.openxmlformats.org/officeDocument/2006/relationships/slide" Target="slide22.xml"/><Relationship Id="rId9" Type="http://schemas.openxmlformats.org/officeDocument/2006/relationships/slide" Target="slide24.xml"/><Relationship Id="rId10" Type="http://schemas.openxmlformats.org/officeDocument/2006/relationships/slide" Target="slide26.xml"/><Relationship Id="rId11" Type="http://schemas.openxmlformats.org/officeDocument/2006/relationships/slide" Target="slide28.xml"/><Relationship Id="rId12" Type="http://schemas.openxmlformats.org/officeDocument/2006/relationships/slide" Target="slide33.xml"/><Relationship Id="rId13" Type="http://schemas.openxmlformats.org/officeDocument/2006/relationships/slide" Target="slide34.xml"/><Relationship Id="rId14" Type="http://schemas.openxmlformats.org/officeDocument/2006/relationships/slide" Target=""/><Relationship Id="rId15" Type="http://schemas.openxmlformats.org/officeDocument/2006/relationships/slide" Target="slide35.xml"/><Relationship Id="rId16" Type="http://schemas.openxmlformats.org/officeDocument/2006/relationships/slide" Target=""/><Relationship Id="rId17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roll.wav" TargetMode="External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slide" Target="slide5.xml"/><Relationship Id="rId4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hyperlink" Target="file:///tmp/home/.config/libreoffice/4/user/gallery/drumroll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8"/>
          <p:cNvSpPr/>
          <p:nvPr/>
        </p:nvSpPr>
        <p:spPr>
          <a:xfrm>
            <a:off x="814320" y="379440"/>
            <a:ext cx="7488360" cy="628488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4"/>
          <p:cNvSpPr/>
          <p:nvPr/>
        </p:nvSpPr>
        <p:spPr>
          <a:xfrm>
            <a:off x="2293920" y="1984320"/>
            <a:ext cx="471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1459c"/>
                </a:solidFill>
                <a:latin typeface="Arial"/>
              </a:rPr>
              <a:t> 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Виктори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5"/>
          <p:cNvSpPr/>
          <p:nvPr/>
        </p:nvSpPr>
        <p:spPr>
          <a:xfrm>
            <a:off x="420840" y="3313080"/>
            <a:ext cx="8070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ru-RU" sz="6600" spc="-1" strike="noStrike">
                <a:solidFill>
                  <a:srgbClr val="cc0000"/>
                </a:solidFill>
                <a:latin typeface="Arial"/>
              </a:rPr>
              <a:t>Конституция и Я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6">
            <a:hlinkClick r:id="rId1" action="ppaction://hlinksldjump"/>
          </p:cNvPr>
          <p:cNvSpPr/>
          <p:nvPr/>
        </p:nvSpPr>
        <p:spPr>
          <a:xfrm>
            <a:off x="8026560" y="5918040"/>
            <a:ext cx="871200" cy="722520"/>
          </a:xfrm>
          <a:custGeom>
            <a:avLst/>
            <a:gdLst>
              <a:gd name="textAreaLeft" fmla="*/ 46800 w 871200"/>
              <a:gd name="textAreaRight" fmla="*/ 824400 w 871200"/>
              <a:gd name="textAreaTop" fmla="*/ 46800 h 722520"/>
              <a:gd name="textAreaBottom" fmla="*/ 675720 h 722520"/>
            </a:gdLst>
            <a:ahLst/>
            <a:rect l="textAreaLeft" t="textAreaTop" r="textAreaRight" b="textAreaBottom"/>
            <a:pathLst>
              <a:path w="26043" h="21600">
                <a:moveTo>
                  <a:pt x="0" y="0"/>
                </a:moveTo>
                <a:lnTo>
                  <a:pt x="26043" y="0"/>
                </a:lnTo>
                <a:lnTo>
                  <a:pt x="26043" y="21600"/>
                </a:lnTo>
                <a:lnTo>
                  <a:pt x="0" y="21600"/>
                </a:lnTo>
                <a:close/>
              </a:path>
              <a:path fill="lightenLess" w="26043" h="21600">
                <a:moveTo>
                  <a:pt x="0" y="0"/>
                </a:moveTo>
                <a:lnTo>
                  <a:pt x="26043" y="0"/>
                </a:lnTo>
                <a:lnTo>
                  <a:pt x="24643" y="1400"/>
                </a:lnTo>
                <a:lnTo>
                  <a:pt x="1400" y="1400"/>
                </a:lnTo>
                <a:close/>
              </a:path>
              <a:path fill="darken" w="26043" h="21600">
                <a:moveTo>
                  <a:pt x="26043" y="0"/>
                </a:moveTo>
                <a:lnTo>
                  <a:pt x="26043" y="21600"/>
                </a:lnTo>
                <a:lnTo>
                  <a:pt x="24643" y="20200"/>
                </a:lnTo>
                <a:lnTo>
                  <a:pt x="24643" y="1400"/>
                </a:lnTo>
                <a:close/>
              </a:path>
              <a:path fill="darkenLess" w="26043" h="21600">
                <a:moveTo>
                  <a:pt x="260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43" y="20200"/>
                </a:lnTo>
                <a:close/>
              </a:path>
              <a:path fill="lighten" w="260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43" h="21600">
                <a:moveTo>
                  <a:pt x="6015" y="3794"/>
                </a:moveTo>
                <a:lnTo>
                  <a:pt x="20028" y="10800"/>
                </a:lnTo>
                <a:lnTo>
                  <a:pt x="6015" y="17806"/>
                </a:lnTo>
                <a:close/>
              </a:path>
            </a:pathLst>
          </a:custGeom>
          <a:solidFill>
            <a:srgbClr val="ef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12"/>
          <p:cNvSpPr/>
          <p:nvPr/>
        </p:nvSpPr>
        <p:spPr>
          <a:xfrm>
            <a:off x="974880" y="297000"/>
            <a:ext cx="7488000" cy="628488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4"/>
          <p:cNvSpPr/>
          <p:nvPr/>
        </p:nvSpPr>
        <p:spPr>
          <a:xfrm>
            <a:off x="1595520" y="493560"/>
            <a:ext cx="685620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1459c"/>
                </a:solidFill>
                <a:latin typeface="Arial"/>
              </a:rPr>
              <a:t>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1459c"/>
                </a:solidFill>
                <a:latin typeface="Arial"/>
              </a:rPr>
              <a:t>                    </a:t>
            </a:r>
            <a:r>
              <a:rPr b="1" lang="ru-RU" sz="3200" spc="-1" strike="noStrike">
                <a:solidFill>
                  <a:srgbClr val="31459c"/>
                </a:solidFill>
                <a:latin typeface="Arial"/>
              </a:rPr>
              <a:t>Когда  была приня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1459c"/>
                </a:solidFill>
                <a:latin typeface="Arial"/>
              </a:rPr>
              <a:t>Конституция Российской Федер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6">
            <a:hlinkClick r:id="rId1"/>
          </p:cNvPr>
          <p:cNvSpPr/>
          <p:nvPr/>
        </p:nvSpPr>
        <p:spPr>
          <a:xfrm>
            <a:off x="1909800" y="2732040"/>
            <a:ext cx="1681200" cy="1042920"/>
          </a:xfrm>
          <a:custGeom>
            <a:avLst/>
            <a:gdLst>
              <a:gd name="textAreaLeft" fmla="*/ 67320 w 1681200"/>
              <a:gd name="textAreaRight" fmla="*/ 1613880 w 168120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34815" h="21600">
                <a:moveTo>
                  <a:pt x="0" y="0"/>
                </a:moveTo>
                <a:lnTo>
                  <a:pt x="34815" y="0"/>
                </a:lnTo>
                <a:lnTo>
                  <a:pt x="34815" y="21600"/>
                </a:lnTo>
                <a:lnTo>
                  <a:pt x="0" y="21600"/>
                </a:lnTo>
                <a:close/>
              </a:path>
              <a:path fill="lightenLess" w="34815" h="21600">
                <a:moveTo>
                  <a:pt x="0" y="0"/>
                </a:moveTo>
                <a:lnTo>
                  <a:pt x="34815" y="0"/>
                </a:lnTo>
                <a:lnTo>
                  <a:pt x="33415" y="1400"/>
                </a:lnTo>
                <a:lnTo>
                  <a:pt x="1400" y="1400"/>
                </a:lnTo>
                <a:close/>
              </a:path>
              <a:path fill="darken" w="34815" h="21600">
                <a:moveTo>
                  <a:pt x="34815" y="0"/>
                </a:moveTo>
                <a:lnTo>
                  <a:pt x="34815" y="21600"/>
                </a:lnTo>
                <a:lnTo>
                  <a:pt x="33415" y="20200"/>
                </a:lnTo>
                <a:lnTo>
                  <a:pt x="33415" y="1400"/>
                </a:lnTo>
                <a:close/>
              </a:path>
              <a:path fill="darkenLess" w="34815" h="21600">
                <a:moveTo>
                  <a:pt x="348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15" y="20200"/>
                </a:lnTo>
                <a:close/>
              </a:path>
              <a:path fill="lighten" w="348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1 ию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991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7">
            <a:hlinkClick r:id="rId2"/>
          </p:cNvPr>
          <p:cNvSpPr/>
          <p:nvPr/>
        </p:nvSpPr>
        <p:spPr>
          <a:xfrm>
            <a:off x="3706920" y="3943440"/>
            <a:ext cx="1719000" cy="1042920"/>
          </a:xfrm>
          <a:custGeom>
            <a:avLst/>
            <a:gdLst>
              <a:gd name="textAreaLeft" fmla="*/ 67320 w 1719000"/>
              <a:gd name="textAreaRight" fmla="*/ 1651680 w 171900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35598" h="21600">
                <a:moveTo>
                  <a:pt x="0" y="0"/>
                </a:moveTo>
                <a:lnTo>
                  <a:pt x="35598" y="0"/>
                </a:lnTo>
                <a:lnTo>
                  <a:pt x="35598" y="21600"/>
                </a:lnTo>
                <a:lnTo>
                  <a:pt x="0" y="21600"/>
                </a:lnTo>
                <a:close/>
              </a:path>
              <a:path fill="lightenLess" w="35598" h="21600">
                <a:moveTo>
                  <a:pt x="0" y="0"/>
                </a:moveTo>
                <a:lnTo>
                  <a:pt x="35598" y="0"/>
                </a:lnTo>
                <a:lnTo>
                  <a:pt x="34198" y="1400"/>
                </a:lnTo>
                <a:lnTo>
                  <a:pt x="1400" y="1400"/>
                </a:lnTo>
                <a:close/>
              </a:path>
              <a:path fill="darken" w="35598" h="21600">
                <a:moveTo>
                  <a:pt x="35598" y="0"/>
                </a:moveTo>
                <a:lnTo>
                  <a:pt x="35598" y="21600"/>
                </a:lnTo>
                <a:lnTo>
                  <a:pt x="34198" y="20200"/>
                </a:lnTo>
                <a:lnTo>
                  <a:pt x="34198" y="1400"/>
                </a:lnTo>
                <a:close/>
              </a:path>
              <a:path fill="darkenLess" w="35598" h="21600">
                <a:moveTo>
                  <a:pt x="355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198" y="20200"/>
                </a:lnTo>
                <a:close/>
              </a:path>
              <a:path fill="lighten" w="355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4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2 декабр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993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8">
            <a:hlinkClick r:id="rId3"/>
          </p:cNvPr>
          <p:cNvSpPr/>
          <p:nvPr/>
        </p:nvSpPr>
        <p:spPr>
          <a:xfrm>
            <a:off x="6026040" y="4929120"/>
            <a:ext cx="1710000" cy="1042920"/>
          </a:xfrm>
          <a:custGeom>
            <a:avLst/>
            <a:gdLst>
              <a:gd name="textAreaLeft" fmla="*/ 67320 w 1710000"/>
              <a:gd name="textAreaRight" fmla="*/ 1642680 w 171000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35411" h="21600">
                <a:moveTo>
                  <a:pt x="0" y="0"/>
                </a:moveTo>
                <a:lnTo>
                  <a:pt x="35411" y="0"/>
                </a:lnTo>
                <a:lnTo>
                  <a:pt x="35411" y="21600"/>
                </a:lnTo>
                <a:lnTo>
                  <a:pt x="0" y="21600"/>
                </a:lnTo>
                <a:close/>
              </a:path>
              <a:path fill="lightenLess" w="35411" h="21600">
                <a:moveTo>
                  <a:pt x="0" y="0"/>
                </a:moveTo>
                <a:lnTo>
                  <a:pt x="35411" y="0"/>
                </a:lnTo>
                <a:lnTo>
                  <a:pt x="34011" y="1400"/>
                </a:lnTo>
                <a:lnTo>
                  <a:pt x="1400" y="1400"/>
                </a:lnTo>
                <a:close/>
              </a:path>
              <a:path fill="darken" w="35411" h="21600">
                <a:moveTo>
                  <a:pt x="35411" y="0"/>
                </a:moveTo>
                <a:lnTo>
                  <a:pt x="35411" y="21600"/>
                </a:lnTo>
                <a:lnTo>
                  <a:pt x="34011" y="20200"/>
                </a:lnTo>
                <a:lnTo>
                  <a:pt x="34011" y="1400"/>
                </a:lnTo>
                <a:close/>
              </a:path>
              <a:path fill="darkenLess" w="35411" h="21600">
                <a:moveTo>
                  <a:pt x="354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011" y="20200"/>
                </a:lnTo>
                <a:close/>
              </a:path>
              <a:path fill="lighten" w="354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1 декабр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003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6"/>
          <p:cNvSpPr/>
          <p:nvPr/>
        </p:nvSpPr>
        <p:spPr>
          <a:xfrm>
            <a:off x="974880" y="297000"/>
            <a:ext cx="7488000" cy="628488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4"/>
          <p:cNvSpPr/>
          <p:nvPr/>
        </p:nvSpPr>
        <p:spPr>
          <a:xfrm>
            <a:off x="946080" y="922320"/>
            <a:ext cx="9848880" cy="41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1459c"/>
                </a:solidFill>
                <a:latin typeface="Arial"/>
              </a:rPr>
              <a:t>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1459c"/>
                </a:solidFill>
                <a:latin typeface="Arial"/>
              </a:rPr>
              <a:t>                       </a:t>
            </a:r>
            <a:r>
              <a:rPr b="1" lang="ru-RU" sz="3600" spc="-1" strike="noStrike">
                <a:solidFill>
                  <a:srgbClr val="31459c"/>
                </a:solidFill>
                <a:latin typeface="Arial"/>
              </a:rPr>
              <a:t>Конститу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1459c"/>
                </a:solidFill>
                <a:latin typeface="Arial"/>
              </a:rPr>
              <a:t>        </a:t>
            </a:r>
            <a:r>
              <a:rPr b="1" lang="ru-RU" sz="3600" spc="-1" strike="noStrike">
                <a:solidFill>
                  <a:srgbClr val="31459c"/>
                </a:solidFill>
                <a:latin typeface="Arial"/>
              </a:rPr>
              <a:t>Российской Федер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1459c"/>
                </a:solidFill>
                <a:latin typeface="Arial"/>
              </a:rPr>
              <a:t>                 </a:t>
            </a:r>
            <a:r>
              <a:rPr b="1" lang="ru-RU" sz="3600" spc="-1" strike="noStrike">
                <a:solidFill>
                  <a:srgbClr val="31459c"/>
                </a:solidFill>
                <a:latin typeface="Arial"/>
              </a:rPr>
              <a:t>была приня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1459c"/>
                </a:solidFill>
                <a:latin typeface="Arial"/>
              </a:rPr>
              <a:t>           </a:t>
            </a:r>
            <a:r>
              <a:rPr b="1" lang="ru-RU" sz="4800" spc="-1" strike="noStrike">
                <a:solidFill>
                  <a:srgbClr val="31459c"/>
                </a:solidFill>
                <a:latin typeface="Arial"/>
              </a:rPr>
              <a:t>12 декабр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1459c"/>
                </a:solidFill>
                <a:latin typeface="Arial"/>
              </a:rPr>
              <a:t>             </a:t>
            </a:r>
            <a:r>
              <a:rPr b="1" lang="ru-RU" sz="4800" spc="-1" strike="noStrike">
                <a:solidFill>
                  <a:srgbClr val="31459c"/>
                </a:solidFill>
                <a:latin typeface="Arial"/>
              </a:rPr>
              <a:t>1993 го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8"/>
          <p:cNvSpPr/>
          <p:nvPr/>
        </p:nvSpPr>
        <p:spPr>
          <a:xfrm>
            <a:off x="814320" y="379440"/>
            <a:ext cx="7488360" cy="628488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4"/>
          <p:cNvSpPr/>
          <p:nvPr/>
        </p:nvSpPr>
        <p:spPr>
          <a:xfrm>
            <a:off x="2293920" y="1984320"/>
            <a:ext cx="471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1459c"/>
                </a:solidFill>
                <a:latin typeface="Arial"/>
              </a:rPr>
              <a:t>  </a:t>
            </a:r>
            <a:r>
              <a:rPr b="1" lang="ru-RU" sz="5400" spc="-1" strike="noStrike">
                <a:solidFill>
                  <a:srgbClr val="31459c"/>
                </a:solidFill>
                <a:latin typeface="Arial"/>
              </a:rPr>
              <a:t>Категор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5"/>
          <p:cNvSpPr/>
          <p:nvPr/>
        </p:nvSpPr>
        <p:spPr>
          <a:xfrm>
            <a:off x="420840" y="3313080"/>
            <a:ext cx="8070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          </a:t>
            </a:r>
            <a:r>
              <a:rPr b="1" lang="ru-RU" sz="6600" spc="-1" strike="noStrike">
                <a:solidFill>
                  <a:srgbClr val="cc0000"/>
                </a:solidFill>
                <a:latin typeface="Arial"/>
              </a:rPr>
              <a:t>Нарушили!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алёнушка.avi" descr=""/>
          <p:cNvPicPr/>
          <p:nvPr/>
        </p:nvPicPr>
        <p:blipFill>
          <a:blip r:embed="rId1"/>
          <a:stretch/>
        </p:blipFill>
        <p:spPr>
          <a:xfrm>
            <a:off x="647640" y="306360"/>
            <a:ext cx="7391520" cy="59133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" dur="33520" fill="hold"/>
                                        <p:tgtEl>
                                          <p:spTgt spid="5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560"/>
                    </p:tgtEl>
                  </p:cond>
                </p:stCondLst>
                <p:childTnLst>
                  <p:par>
                    <p:cTn id="142" nodeType="clickEffect" fill="hold">
                      <p:stCondLst>
                        <p:cond evt="onClick">
                          <p:tgtEl>
                            <p:spTgt spid="560"/>
                          </p:tgtEl>
                        </p:cond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5" dur="1" fill="hold"/>
                                        <p:tgtEl>
                                          <p:spTgt spid="5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1062000" y="325440"/>
            <a:ext cx="7488360" cy="628488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4"/>
          <p:cNvSpPr/>
          <p:nvPr/>
        </p:nvSpPr>
        <p:spPr>
          <a:xfrm>
            <a:off x="2190600" y="1527120"/>
            <a:ext cx="537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Статья 22    Конституции Р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987480" y="2666880"/>
            <a:ext cx="8258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ждый имеет право на свободу и личную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прикосновен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ест, заключение под стражу и содерж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 стражей возможно только по решен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золушка.avi" descr=""/>
          <p:cNvPicPr/>
          <p:nvPr/>
        </p:nvPicPr>
        <p:blipFill>
          <a:blip r:embed="rId1"/>
          <a:stretch/>
        </p:blipFill>
        <p:spPr>
          <a:xfrm>
            <a:off x="809640" y="782640"/>
            <a:ext cx="7286760" cy="5829120"/>
          </a:xfrm>
          <a:prstGeom prst="rect">
            <a:avLst/>
          </a:prstGeom>
          <a:ln w="0">
            <a:noFill/>
          </a:ln>
        </p:spPr>
      </p:pic>
      <p:sp>
        <p:nvSpPr>
          <p:cNvPr id="565" name="TextBox 3"/>
          <p:cNvSpPr/>
          <p:nvPr/>
        </p:nvSpPr>
        <p:spPr>
          <a:xfrm>
            <a:off x="1566720" y="5864400"/>
            <a:ext cx="502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М/ф «Золушка»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" dur="67120" fill="hold"/>
                                        <p:tgtEl>
                                          <p:spTgt spid="5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564"/>
                    </p:tgtEl>
                  </p:cond>
                </p:stCondLst>
                <p:childTnLst>
                  <p:par>
                    <p:cTn id="153" nodeType="clickEffect" fill="hold">
                      <p:stCondLst>
                        <p:cond evt="onClick">
                          <p:tgtEl>
                            <p:spTgt spid="564"/>
                          </p:tgtEl>
                        </p:cond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6" dur="1" fill="hold"/>
                                        <p:tgtEl>
                                          <p:spTgt spid="5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1019160" y="774720"/>
            <a:ext cx="7488360" cy="574200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4"/>
          <p:cNvSpPr/>
          <p:nvPr/>
        </p:nvSpPr>
        <p:spPr>
          <a:xfrm>
            <a:off x="1828800" y="1527120"/>
            <a:ext cx="573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Статья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37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    Конституции Р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1"/>
          <p:cNvSpPr/>
          <p:nvPr/>
        </p:nvSpPr>
        <p:spPr>
          <a:xfrm>
            <a:off x="1219320" y="23400"/>
            <a:ext cx="7010280" cy="46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Труд свободен. Каждый имеет право свободно распоряжаться своими способност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труду, выбирать род деятельности и професс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инудительный труд запрещ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маша и медведь.mp4" descr=""/>
          <p:cNvPicPr/>
          <p:nvPr/>
        </p:nvPicPr>
        <p:blipFill>
          <a:blip r:embed="rId1"/>
          <a:stretch/>
        </p:blipFill>
        <p:spPr>
          <a:xfrm>
            <a:off x="492120" y="469800"/>
            <a:ext cx="7846920" cy="58435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31360" fill="hold"/>
                                        <p:tgtEl>
                                          <p:spTgt spid="5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569"/>
                    </p:tgtEl>
                  </p:cond>
                </p:stCondLst>
                <p:childTnLst>
                  <p:par>
                    <p:cTn id="164" nodeType="clickEffect" fill="hold">
                      <p:stCondLst>
                        <p:cond evt="onClick">
                          <p:tgtEl>
                            <p:spTgt spid="569"/>
                          </p:tgtEl>
                        </p:cond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7" dur="1" fill="hold"/>
                                        <p:tgtEl>
                                          <p:spTgt spid="5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874800" y="334800"/>
            <a:ext cx="7488000" cy="628524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4"/>
          <p:cNvSpPr/>
          <p:nvPr/>
        </p:nvSpPr>
        <p:spPr>
          <a:xfrm>
            <a:off x="2176560" y="1049400"/>
            <a:ext cx="555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Статья 25  Конституции Р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5"/>
          <p:cNvSpPr/>
          <p:nvPr/>
        </p:nvSpPr>
        <p:spPr>
          <a:xfrm>
            <a:off x="1177920" y="2046240"/>
            <a:ext cx="713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илище неприкосновенно. Никто не вправе проникать в жилище против воли проживающих в нём ли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аче как в случаях, установленных федеральным законом или на основании судебного ре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6"/>
          <p:cNvSpPr/>
          <p:nvPr/>
        </p:nvSpPr>
        <p:spPr>
          <a:xfrm>
            <a:off x="7858080" y="5695920"/>
            <a:ext cx="852480" cy="814320"/>
          </a:xfrm>
          <a:custGeom>
            <a:avLst/>
            <a:gdLst>
              <a:gd name="textAreaLeft" fmla="*/ 52560 w 852480"/>
              <a:gd name="textAreaRight" fmla="*/ 799920 w 852480"/>
              <a:gd name="textAreaTop" fmla="*/ 52560 h 814320"/>
              <a:gd name="textAreaBottom" fmla="*/ 761760 h 814320"/>
            </a:gdLst>
            <a:ahLst/>
            <a:rect l="textAreaLeft" t="textAreaTop" r="textAreaRight" b="textAreaBottom"/>
            <a:pathLst>
              <a:path w="22612" h="21600">
                <a:moveTo>
                  <a:pt x="0" y="0"/>
                </a:moveTo>
                <a:lnTo>
                  <a:pt x="22612" y="0"/>
                </a:lnTo>
                <a:lnTo>
                  <a:pt x="22612" y="21600"/>
                </a:lnTo>
                <a:lnTo>
                  <a:pt x="0" y="21600"/>
                </a:lnTo>
                <a:close/>
              </a:path>
              <a:path fill="lightenLess" w="22612" h="21600">
                <a:moveTo>
                  <a:pt x="0" y="0"/>
                </a:moveTo>
                <a:lnTo>
                  <a:pt x="22612" y="0"/>
                </a:lnTo>
                <a:lnTo>
                  <a:pt x="21212" y="1400"/>
                </a:lnTo>
                <a:lnTo>
                  <a:pt x="1400" y="1400"/>
                </a:lnTo>
                <a:close/>
              </a:path>
              <a:path fill="darken" w="22612" h="21600">
                <a:moveTo>
                  <a:pt x="22612" y="0"/>
                </a:moveTo>
                <a:lnTo>
                  <a:pt x="22612" y="21600"/>
                </a:lnTo>
                <a:lnTo>
                  <a:pt x="21212" y="20200"/>
                </a:lnTo>
                <a:lnTo>
                  <a:pt x="21212" y="1400"/>
                </a:lnTo>
                <a:close/>
              </a:path>
              <a:path fill="darkenLess" w="22612" h="21600">
                <a:moveTo>
                  <a:pt x="22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12" y="20200"/>
                </a:lnTo>
                <a:close/>
              </a:path>
              <a:path fill="lighten" w="22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12" h="21600">
                <a:moveTo>
                  <a:pt x="4299" y="7493"/>
                </a:moveTo>
                <a:lnTo>
                  <a:pt x="7807" y="7493"/>
                </a:lnTo>
                <a:lnTo>
                  <a:pt x="7807" y="12828"/>
                </a:lnTo>
                <a:cubicBezTo>
                  <a:pt x="7807" y="13751"/>
                  <a:pt x="8608" y="14482"/>
                  <a:pt x="9643" y="14482"/>
                </a:cubicBezTo>
                <a:lnTo>
                  <a:pt x="11306" y="14482"/>
                </a:lnTo>
                <a:cubicBezTo>
                  <a:pt x="12342" y="14482"/>
                  <a:pt x="13142" y="13751"/>
                  <a:pt x="13142" y="12828"/>
                </a:cubicBezTo>
                <a:lnTo>
                  <a:pt x="13142" y="7493"/>
                </a:lnTo>
                <a:lnTo>
                  <a:pt x="11306" y="7493"/>
                </a:lnTo>
                <a:lnTo>
                  <a:pt x="14813" y="3985"/>
                </a:lnTo>
                <a:lnTo>
                  <a:pt x="18486" y="7493"/>
                </a:lnTo>
                <a:lnTo>
                  <a:pt x="16650" y="7493"/>
                </a:lnTo>
                <a:lnTo>
                  <a:pt x="16650" y="12828"/>
                </a:lnTo>
                <a:cubicBezTo>
                  <a:pt x="16650" y="15596"/>
                  <a:pt x="14074" y="18155"/>
                  <a:pt x="11306" y="18155"/>
                </a:cubicBezTo>
                <a:lnTo>
                  <a:pt x="9643" y="18155"/>
                </a:lnTo>
                <a:cubicBezTo>
                  <a:pt x="6876" y="18155"/>
                  <a:pt x="4299" y="15596"/>
                  <a:pt x="4299" y="12828"/>
                </a:cubicBezTo>
                <a:close/>
              </a:path>
            </a:pathLst>
          </a:custGeom>
          <a:solidFill>
            <a:srgbClr val="ef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иванушка.avi" descr=""/>
          <p:cNvPicPr/>
          <p:nvPr/>
        </p:nvPicPr>
        <p:blipFill>
          <a:blip r:embed="rId1"/>
          <a:stretch/>
        </p:blipFill>
        <p:spPr>
          <a:xfrm>
            <a:off x="905040" y="465120"/>
            <a:ext cx="7372080" cy="5897520"/>
          </a:xfrm>
          <a:prstGeom prst="rect">
            <a:avLst/>
          </a:prstGeom>
          <a:ln w="0">
            <a:noFill/>
          </a:ln>
        </p:spPr>
      </p:pic>
      <p:sp>
        <p:nvSpPr>
          <p:cNvPr id="575" name="AutoShape 5">
            <a:hlinkClick r:id="rId2"/>
          </p:cNvPr>
          <p:cNvSpPr/>
          <p:nvPr/>
        </p:nvSpPr>
        <p:spPr>
          <a:xfrm>
            <a:off x="8358120" y="6019920"/>
            <a:ext cx="785880" cy="699840"/>
          </a:xfrm>
          <a:custGeom>
            <a:avLst/>
            <a:gdLst>
              <a:gd name="textAreaLeft" fmla="*/ 45360 w 785880"/>
              <a:gd name="textAreaRight" fmla="*/ 740520 w 785880"/>
              <a:gd name="textAreaTop" fmla="*/ 45360 h 699840"/>
              <a:gd name="textAreaBottom" fmla="*/ 654480 h 699840"/>
            </a:gdLst>
            <a:ahLst/>
            <a:rect l="textAreaLeft" t="textAreaTop" r="textAreaRight" b="textAreaBottom"/>
            <a:pathLst>
              <a:path w="24254" h="21600">
                <a:moveTo>
                  <a:pt x="0" y="0"/>
                </a:moveTo>
                <a:lnTo>
                  <a:pt x="24254" y="0"/>
                </a:lnTo>
                <a:lnTo>
                  <a:pt x="24254" y="21600"/>
                </a:lnTo>
                <a:lnTo>
                  <a:pt x="0" y="21600"/>
                </a:lnTo>
                <a:close/>
              </a:path>
              <a:path fill="lightenLess" w="24254" h="21600">
                <a:moveTo>
                  <a:pt x="0" y="0"/>
                </a:moveTo>
                <a:lnTo>
                  <a:pt x="24254" y="0"/>
                </a:lnTo>
                <a:lnTo>
                  <a:pt x="22854" y="1400"/>
                </a:lnTo>
                <a:lnTo>
                  <a:pt x="1400" y="1400"/>
                </a:lnTo>
                <a:close/>
              </a:path>
              <a:path fill="darken" w="24254" h="21600">
                <a:moveTo>
                  <a:pt x="24254" y="0"/>
                </a:moveTo>
                <a:lnTo>
                  <a:pt x="24254" y="21600"/>
                </a:lnTo>
                <a:lnTo>
                  <a:pt x="22854" y="20200"/>
                </a:lnTo>
                <a:lnTo>
                  <a:pt x="22854" y="1400"/>
                </a:lnTo>
                <a:close/>
              </a:path>
              <a:path fill="darkenLess" w="24254" h="21600">
                <a:moveTo>
                  <a:pt x="24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54" y="20200"/>
                </a:lnTo>
                <a:close/>
              </a:path>
              <a:path fill="lighten" w="24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54" h="21600">
                <a:moveTo>
                  <a:pt x="5121" y="3794"/>
                </a:moveTo>
                <a:lnTo>
                  <a:pt x="19134" y="10800"/>
                </a:lnTo>
                <a:lnTo>
                  <a:pt x="5121" y="17806"/>
                </a:lnTo>
                <a:close/>
              </a:path>
            </a:pathLst>
          </a:custGeom>
          <a:solidFill>
            <a:srgbClr val="ef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3" dur="51360" fill="hold"/>
                                        <p:tgtEl>
                                          <p:spTgt spid="5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restart="whenNotActive" nodeType="interactiveSeq" fill="hold">
                <p:stCondLst>
                  <p:cond evt="onClick">
                    <p:tgtEl>
                      <p:spTgt spid="574"/>
                    </p:tgtEl>
                  </p:cond>
                </p:stCondLst>
                <p:childTnLst>
                  <p:par>
                    <p:cTn id="175" nodeType="clickEffect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8" dur="1" fill="hold"/>
                                        <p:tgtEl>
                                          <p:spTgt spid="5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102"/>
          <p:cNvSpPr/>
          <p:nvPr/>
        </p:nvSpPr>
        <p:spPr>
          <a:xfrm>
            <a:off x="871560" y="297000"/>
            <a:ext cx="7459560" cy="628488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1306440" y="2647800"/>
          <a:ext cx="5388120" cy="3133800"/>
        </p:xfrm>
        <a:graphic>
          <a:graphicData uri="http://schemas.openxmlformats.org/drawingml/2006/table">
            <a:tbl>
              <a:tblPr/>
              <a:tblGrid>
                <a:gridCol w="1719360"/>
                <a:gridCol w="936720"/>
                <a:gridCol w="919080"/>
                <a:gridCol w="825480"/>
                <a:gridCol w="98748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12f69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212f69"/>
                          </a:solidFill>
                          <a:latin typeface="Arial"/>
                        </a:rPr>
                        <a:t>Прост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12f69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1800" spc="-1" strike="noStrike">
                          <a:solidFill>
                            <a:srgbClr val="212f69"/>
                          </a:solidFill>
                          <a:latin typeface="Arial"/>
                        </a:rPr>
                        <a:t>вопро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12f6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212f69"/>
                          </a:solidFill>
                          <a:latin typeface="Arial"/>
                        </a:rPr>
                        <a:t>Нарушили 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12f69"/>
                          </a:solidFill>
                          <a:latin typeface="Arial"/>
                        </a:rPr>
                        <a:t>Обязан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12f69"/>
                          </a:solidFill>
                          <a:latin typeface="Arial"/>
                        </a:rPr>
                        <a:t>Символ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8" name="AutoShape 69">
            <a:hlinkClick r:id="rId1" action="ppaction://hlinksldjump"/>
          </p:cNvPr>
          <p:cNvSpPr/>
          <p:nvPr/>
        </p:nvSpPr>
        <p:spPr>
          <a:xfrm>
            <a:off x="3156120" y="2658960"/>
            <a:ext cx="652320" cy="642960"/>
          </a:xfrm>
          <a:custGeom>
            <a:avLst/>
            <a:gdLst>
              <a:gd name="textAreaLeft" fmla="*/ 41400 w 652320"/>
              <a:gd name="textAreaRight" fmla="*/ 610920 w 65232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914" h="21600">
                <a:moveTo>
                  <a:pt x="0" y="0"/>
                </a:moveTo>
                <a:lnTo>
                  <a:pt x="21914" y="0"/>
                </a:lnTo>
                <a:lnTo>
                  <a:pt x="21914" y="21600"/>
                </a:lnTo>
                <a:lnTo>
                  <a:pt x="0" y="21600"/>
                </a:lnTo>
                <a:close/>
              </a:path>
              <a:path fill="lightenLess" w="21914" h="21600">
                <a:moveTo>
                  <a:pt x="0" y="0"/>
                </a:moveTo>
                <a:lnTo>
                  <a:pt x="21914" y="0"/>
                </a:lnTo>
                <a:lnTo>
                  <a:pt x="20514" y="1400"/>
                </a:lnTo>
                <a:lnTo>
                  <a:pt x="1400" y="1400"/>
                </a:lnTo>
                <a:close/>
              </a:path>
              <a:path fill="darken" w="21914" h="21600">
                <a:moveTo>
                  <a:pt x="21914" y="0"/>
                </a:moveTo>
                <a:lnTo>
                  <a:pt x="21914" y="21600"/>
                </a:lnTo>
                <a:lnTo>
                  <a:pt x="20514" y="20200"/>
                </a:lnTo>
                <a:lnTo>
                  <a:pt x="20514" y="1400"/>
                </a:lnTo>
                <a:close/>
              </a:path>
              <a:path fill="darkenLess" w="21914" h="21600">
                <a:moveTo>
                  <a:pt x="21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514" y="20200"/>
                </a:lnTo>
                <a:close/>
              </a:path>
              <a:path fill="lighten" w="21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2f6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71">
            <a:hlinkClick r:id="rId2" action="ppaction://hlinksldjump"/>
          </p:cNvPr>
          <p:cNvSpPr/>
          <p:nvPr/>
        </p:nvSpPr>
        <p:spPr>
          <a:xfrm>
            <a:off x="4086360" y="2678040"/>
            <a:ext cx="699840" cy="604800"/>
          </a:xfrm>
          <a:custGeom>
            <a:avLst/>
            <a:gdLst>
              <a:gd name="textAreaLeft" fmla="*/ 38880 w 699840"/>
              <a:gd name="textAreaRight" fmla="*/ 660960 w 699840"/>
              <a:gd name="textAreaTop" fmla="*/ 38880 h 604800"/>
              <a:gd name="textAreaBottom" fmla="*/ 565920 h 604800"/>
            </a:gdLst>
            <a:ahLst/>
            <a:rect l="textAreaLeft" t="textAreaTop" r="textAreaRight" b="textAreaBottom"/>
            <a:pathLst>
              <a:path w="24992" h="21600">
                <a:moveTo>
                  <a:pt x="0" y="0"/>
                </a:moveTo>
                <a:lnTo>
                  <a:pt x="24992" y="0"/>
                </a:lnTo>
                <a:lnTo>
                  <a:pt x="24992" y="21600"/>
                </a:lnTo>
                <a:lnTo>
                  <a:pt x="0" y="21600"/>
                </a:lnTo>
                <a:close/>
              </a:path>
              <a:path fill="lightenLess" w="24992" h="21600">
                <a:moveTo>
                  <a:pt x="0" y="0"/>
                </a:moveTo>
                <a:lnTo>
                  <a:pt x="24992" y="0"/>
                </a:lnTo>
                <a:lnTo>
                  <a:pt x="23592" y="1400"/>
                </a:lnTo>
                <a:lnTo>
                  <a:pt x="1400" y="1400"/>
                </a:lnTo>
                <a:close/>
              </a:path>
              <a:path fill="darken" w="24992" h="21600">
                <a:moveTo>
                  <a:pt x="24992" y="0"/>
                </a:moveTo>
                <a:lnTo>
                  <a:pt x="24992" y="21600"/>
                </a:lnTo>
                <a:lnTo>
                  <a:pt x="23592" y="20200"/>
                </a:lnTo>
                <a:lnTo>
                  <a:pt x="23592" y="1400"/>
                </a:lnTo>
                <a:close/>
              </a:path>
              <a:path fill="darkenLess" w="24992" h="21600">
                <a:moveTo>
                  <a:pt x="24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2" y="20200"/>
                </a:lnTo>
                <a:close/>
              </a:path>
              <a:path fill="lighten" w="24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2f69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72">
            <a:hlinkClick r:id="rId3" action="ppaction://hlinksldjump"/>
          </p:cNvPr>
          <p:cNvSpPr/>
          <p:nvPr/>
        </p:nvSpPr>
        <p:spPr>
          <a:xfrm>
            <a:off x="3152880" y="3429000"/>
            <a:ext cx="718920" cy="623880"/>
          </a:xfrm>
          <a:custGeom>
            <a:avLst/>
            <a:gdLst>
              <a:gd name="textAreaLeft" fmla="*/ 40320 w 718920"/>
              <a:gd name="textAreaRight" fmla="*/ 678600 w 718920"/>
              <a:gd name="textAreaTop" fmla="*/ 40320 h 623880"/>
              <a:gd name="textAreaBottom" fmla="*/ 583560 h 623880"/>
            </a:gdLst>
            <a:ahLst/>
            <a:rect l="textAreaLeft" t="textAreaTop" r="textAreaRight" b="textAreaBottom"/>
            <a:pathLst>
              <a:path w="24889" h="21600">
                <a:moveTo>
                  <a:pt x="0" y="0"/>
                </a:moveTo>
                <a:lnTo>
                  <a:pt x="24889" y="0"/>
                </a:lnTo>
                <a:lnTo>
                  <a:pt x="24889" y="21600"/>
                </a:lnTo>
                <a:lnTo>
                  <a:pt x="0" y="21600"/>
                </a:lnTo>
                <a:close/>
              </a:path>
              <a:path fill="lightenLess" w="24889" h="21600">
                <a:moveTo>
                  <a:pt x="0" y="0"/>
                </a:moveTo>
                <a:lnTo>
                  <a:pt x="24889" y="0"/>
                </a:lnTo>
                <a:lnTo>
                  <a:pt x="23489" y="1400"/>
                </a:lnTo>
                <a:lnTo>
                  <a:pt x="1400" y="1400"/>
                </a:lnTo>
                <a:close/>
              </a:path>
              <a:path fill="darken" w="24889" h="21600">
                <a:moveTo>
                  <a:pt x="24889" y="0"/>
                </a:moveTo>
                <a:lnTo>
                  <a:pt x="24889" y="21600"/>
                </a:lnTo>
                <a:lnTo>
                  <a:pt x="23489" y="20200"/>
                </a:lnTo>
                <a:lnTo>
                  <a:pt x="23489" y="1400"/>
                </a:lnTo>
                <a:close/>
              </a:path>
              <a:path fill="darkenLess" w="24889" h="21600">
                <a:moveTo>
                  <a:pt x="248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89" y="20200"/>
                </a:lnTo>
                <a:close/>
              </a:path>
              <a:path fill="lighten" w="248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74">
            <a:hlinkClick r:id="rId4" action="ppaction://hlinksldjump"/>
          </p:cNvPr>
          <p:cNvSpPr/>
          <p:nvPr/>
        </p:nvSpPr>
        <p:spPr>
          <a:xfrm>
            <a:off x="4057560" y="3429000"/>
            <a:ext cx="709560" cy="604800"/>
          </a:xfrm>
          <a:custGeom>
            <a:avLst/>
            <a:gdLst>
              <a:gd name="textAreaLeft" fmla="*/ 38880 w 709560"/>
              <a:gd name="textAreaRight" fmla="*/ 670680 w 709560"/>
              <a:gd name="textAreaTop" fmla="*/ 38880 h 604800"/>
              <a:gd name="textAreaBottom" fmla="*/ 565920 h 604800"/>
            </a:gdLst>
            <a:ahLst/>
            <a:rect l="textAreaLeft" t="textAreaTop" r="textAreaRight" b="textAreaBottom"/>
            <a:pathLst>
              <a:path w="25339" h="21600">
                <a:moveTo>
                  <a:pt x="0" y="0"/>
                </a:moveTo>
                <a:lnTo>
                  <a:pt x="25339" y="0"/>
                </a:lnTo>
                <a:lnTo>
                  <a:pt x="25339" y="21600"/>
                </a:lnTo>
                <a:lnTo>
                  <a:pt x="0" y="21600"/>
                </a:lnTo>
                <a:close/>
              </a:path>
              <a:path fill="lightenLess" w="25339" h="21600">
                <a:moveTo>
                  <a:pt x="0" y="0"/>
                </a:moveTo>
                <a:lnTo>
                  <a:pt x="25339" y="0"/>
                </a:lnTo>
                <a:lnTo>
                  <a:pt x="23939" y="1400"/>
                </a:lnTo>
                <a:lnTo>
                  <a:pt x="1400" y="1400"/>
                </a:lnTo>
                <a:close/>
              </a:path>
              <a:path fill="darken" w="25339" h="21600">
                <a:moveTo>
                  <a:pt x="25339" y="0"/>
                </a:moveTo>
                <a:lnTo>
                  <a:pt x="25339" y="21600"/>
                </a:lnTo>
                <a:lnTo>
                  <a:pt x="23939" y="20200"/>
                </a:lnTo>
                <a:lnTo>
                  <a:pt x="23939" y="1400"/>
                </a:lnTo>
                <a:close/>
              </a:path>
              <a:path fill="darkenLess" w="25339" h="21600">
                <a:moveTo>
                  <a:pt x="25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39" y="20200"/>
                </a:lnTo>
                <a:close/>
              </a:path>
              <a:path fill="lighten" w="25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76">
            <a:hlinkClick r:id="rId5" action="ppaction://hlinksldjump"/>
          </p:cNvPr>
          <p:cNvSpPr/>
          <p:nvPr/>
        </p:nvSpPr>
        <p:spPr>
          <a:xfrm>
            <a:off x="4978440" y="3395520"/>
            <a:ext cx="679320" cy="673200"/>
          </a:xfrm>
          <a:custGeom>
            <a:avLst/>
            <a:gdLst>
              <a:gd name="textAreaLeft" fmla="*/ 43560 w 679320"/>
              <a:gd name="textAreaRight" fmla="*/ 635760 w 679320"/>
              <a:gd name="textAreaTop" fmla="*/ 43560 h 673200"/>
              <a:gd name="textAreaBottom" fmla="*/ 629640 h 673200"/>
            </a:gdLst>
            <a:ahLst/>
            <a:rect l="textAreaLeft" t="textAreaTop" r="textAreaRight" b="textAreaBottom"/>
            <a:pathLst>
              <a:path w="21796" h="21600">
                <a:moveTo>
                  <a:pt x="0" y="0"/>
                </a:moveTo>
                <a:lnTo>
                  <a:pt x="21796" y="0"/>
                </a:lnTo>
                <a:lnTo>
                  <a:pt x="21796" y="21600"/>
                </a:lnTo>
                <a:lnTo>
                  <a:pt x="0" y="21600"/>
                </a:lnTo>
                <a:close/>
              </a:path>
              <a:path fill="lightenLess" w="21796" h="21600">
                <a:moveTo>
                  <a:pt x="0" y="0"/>
                </a:moveTo>
                <a:lnTo>
                  <a:pt x="21796" y="0"/>
                </a:lnTo>
                <a:lnTo>
                  <a:pt x="20396" y="1400"/>
                </a:lnTo>
                <a:lnTo>
                  <a:pt x="1400" y="1400"/>
                </a:lnTo>
                <a:close/>
              </a:path>
              <a:path fill="darken" w="21796" h="21600">
                <a:moveTo>
                  <a:pt x="21796" y="0"/>
                </a:moveTo>
                <a:lnTo>
                  <a:pt x="21796" y="21600"/>
                </a:lnTo>
                <a:lnTo>
                  <a:pt x="20396" y="20200"/>
                </a:lnTo>
                <a:lnTo>
                  <a:pt x="20396" y="1400"/>
                </a:lnTo>
                <a:close/>
              </a:path>
              <a:path fill="darkenLess" w="21796" h="21600">
                <a:moveTo>
                  <a:pt x="21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96" y="20200"/>
                </a:lnTo>
                <a:close/>
              </a:path>
              <a:path fill="lighten" w="21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78">
            <a:hlinkClick r:id="rId6" action="ppaction://hlinksldjump"/>
          </p:cNvPr>
          <p:cNvSpPr/>
          <p:nvPr/>
        </p:nvSpPr>
        <p:spPr>
          <a:xfrm>
            <a:off x="5848200" y="3433680"/>
            <a:ext cx="652680" cy="644760"/>
          </a:xfrm>
          <a:custGeom>
            <a:avLst/>
            <a:gdLst>
              <a:gd name="textAreaLeft" fmla="*/ 41760 w 652680"/>
              <a:gd name="textAreaRight" fmla="*/ 610920 w 652680"/>
              <a:gd name="textAreaTop" fmla="*/ 41760 h 644760"/>
              <a:gd name="textAreaBottom" fmla="*/ 603000 h 644760"/>
            </a:gdLst>
            <a:ahLst/>
            <a:rect l="textAreaLeft" t="textAreaTop" r="textAreaRight" b="textAreaBottom"/>
            <a:pathLst>
              <a:path w="21865" h="21600">
                <a:moveTo>
                  <a:pt x="0" y="0"/>
                </a:moveTo>
                <a:lnTo>
                  <a:pt x="21865" y="0"/>
                </a:lnTo>
                <a:lnTo>
                  <a:pt x="21865" y="21600"/>
                </a:lnTo>
                <a:lnTo>
                  <a:pt x="0" y="21600"/>
                </a:lnTo>
                <a:close/>
              </a:path>
              <a:path fill="lightenLess" w="21865" h="21600">
                <a:moveTo>
                  <a:pt x="0" y="0"/>
                </a:moveTo>
                <a:lnTo>
                  <a:pt x="21865" y="0"/>
                </a:lnTo>
                <a:lnTo>
                  <a:pt x="20465" y="1400"/>
                </a:lnTo>
                <a:lnTo>
                  <a:pt x="1400" y="1400"/>
                </a:lnTo>
                <a:close/>
              </a:path>
              <a:path fill="darken" w="21865" h="21600">
                <a:moveTo>
                  <a:pt x="21865" y="0"/>
                </a:moveTo>
                <a:lnTo>
                  <a:pt x="21865" y="21600"/>
                </a:lnTo>
                <a:lnTo>
                  <a:pt x="20465" y="20200"/>
                </a:lnTo>
                <a:lnTo>
                  <a:pt x="20465" y="1400"/>
                </a:lnTo>
                <a:close/>
              </a:path>
              <a:path fill="darkenLess" w="21865" h="21600">
                <a:moveTo>
                  <a:pt x="218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465" y="20200"/>
                </a:lnTo>
                <a:close/>
              </a:path>
              <a:path fill="lighten" w="218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81">
            <a:hlinkClick r:id="rId7" action="ppaction://hlinksldjump"/>
          </p:cNvPr>
          <p:cNvSpPr/>
          <p:nvPr/>
        </p:nvSpPr>
        <p:spPr>
          <a:xfrm>
            <a:off x="4948200" y="2649600"/>
            <a:ext cx="690480" cy="604800"/>
          </a:xfrm>
          <a:custGeom>
            <a:avLst/>
            <a:gdLst>
              <a:gd name="textAreaLeft" fmla="*/ 38880 w 690480"/>
              <a:gd name="textAreaRight" fmla="*/ 651600 w 690480"/>
              <a:gd name="textAreaTop" fmla="*/ 38880 h 604800"/>
              <a:gd name="textAreaBottom" fmla="*/ 565920 h 604800"/>
            </a:gdLst>
            <a:ahLst/>
            <a:rect l="textAreaLeft" t="textAreaTop" r="textAreaRight" b="textAreaBottom"/>
            <a:pathLst>
              <a:path w="24658" h="21600">
                <a:moveTo>
                  <a:pt x="0" y="0"/>
                </a:moveTo>
                <a:lnTo>
                  <a:pt x="24658" y="0"/>
                </a:lnTo>
                <a:lnTo>
                  <a:pt x="24658" y="21600"/>
                </a:lnTo>
                <a:lnTo>
                  <a:pt x="0" y="21600"/>
                </a:lnTo>
                <a:close/>
              </a:path>
              <a:path fill="lightenLess" w="24658" h="21600">
                <a:moveTo>
                  <a:pt x="0" y="0"/>
                </a:moveTo>
                <a:lnTo>
                  <a:pt x="24658" y="0"/>
                </a:lnTo>
                <a:lnTo>
                  <a:pt x="23258" y="1400"/>
                </a:lnTo>
                <a:lnTo>
                  <a:pt x="1400" y="1400"/>
                </a:lnTo>
                <a:close/>
              </a:path>
              <a:path fill="darken" w="24658" h="21600">
                <a:moveTo>
                  <a:pt x="24658" y="0"/>
                </a:moveTo>
                <a:lnTo>
                  <a:pt x="24658" y="21600"/>
                </a:lnTo>
                <a:lnTo>
                  <a:pt x="23258" y="20200"/>
                </a:lnTo>
                <a:lnTo>
                  <a:pt x="23258" y="1400"/>
                </a:lnTo>
                <a:close/>
              </a:path>
              <a:path fill="darkenLess" w="24658" h="21600">
                <a:moveTo>
                  <a:pt x="24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58" y="20200"/>
                </a:lnTo>
                <a:close/>
              </a:path>
              <a:path fill="lighten" w="24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2f69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84">
            <a:hlinkClick r:id="rId8" action="ppaction://hlinksldjump"/>
          </p:cNvPr>
          <p:cNvSpPr/>
          <p:nvPr/>
        </p:nvSpPr>
        <p:spPr>
          <a:xfrm>
            <a:off x="3176640" y="4226040"/>
            <a:ext cx="700200" cy="662040"/>
          </a:xfrm>
          <a:custGeom>
            <a:avLst/>
            <a:gdLst>
              <a:gd name="textAreaLeft" fmla="*/ 42840 w 700200"/>
              <a:gd name="textAreaRight" fmla="*/ 657360 w 70020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2844" h="21600">
                <a:moveTo>
                  <a:pt x="0" y="0"/>
                </a:moveTo>
                <a:lnTo>
                  <a:pt x="22844" y="0"/>
                </a:lnTo>
                <a:lnTo>
                  <a:pt x="22844" y="21600"/>
                </a:lnTo>
                <a:lnTo>
                  <a:pt x="0" y="21600"/>
                </a:lnTo>
                <a:close/>
              </a:path>
              <a:path fill="lightenLess" w="22844" h="21600">
                <a:moveTo>
                  <a:pt x="0" y="0"/>
                </a:moveTo>
                <a:lnTo>
                  <a:pt x="22844" y="0"/>
                </a:lnTo>
                <a:lnTo>
                  <a:pt x="21444" y="1400"/>
                </a:lnTo>
                <a:lnTo>
                  <a:pt x="1400" y="1400"/>
                </a:lnTo>
                <a:close/>
              </a:path>
              <a:path fill="darken" w="22844" h="21600">
                <a:moveTo>
                  <a:pt x="22844" y="0"/>
                </a:moveTo>
                <a:lnTo>
                  <a:pt x="22844" y="21600"/>
                </a:lnTo>
                <a:lnTo>
                  <a:pt x="21444" y="20200"/>
                </a:lnTo>
                <a:lnTo>
                  <a:pt x="21444" y="1400"/>
                </a:lnTo>
                <a:close/>
              </a:path>
              <a:path fill="darkenLess" w="22844" h="21600">
                <a:moveTo>
                  <a:pt x="228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44" y="20200"/>
                </a:lnTo>
                <a:close/>
              </a:path>
              <a:path fill="lighten" w="228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85">
            <a:hlinkClick r:id="rId9" action="ppaction://hlinksldjump"/>
          </p:cNvPr>
          <p:cNvSpPr/>
          <p:nvPr/>
        </p:nvSpPr>
        <p:spPr>
          <a:xfrm>
            <a:off x="4065480" y="4229280"/>
            <a:ext cx="700200" cy="661680"/>
          </a:xfrm>
          <a:custGeom>
            <a:avLst/>
            <a:gdLst>
              <a:gd name="textAreaLeft" fmla="*/ 42840 w 700200"/>
              <a:gd name="textAreaRight" fmla="*/ 657360 w 700200"/>
              <a:gd name="textAreaTop" fmla="*/ 42840 h 661680"/>
              <a:gd name="textAreaBottom" fmla="*/ 618840 h 661680"/>
            </a:gdLst>
            <a:ahLst/>
            <a:rect l="textAreaLeft" t="textAreaTop" r="textAreaRight" b="textAreaBottom"/>
            <a:pathLst>
              <a:path w="22857" h="21600">
                <a:moveTo>
                  <a:pt x="0" y="0"/>
                </a:moveTo>
                <a:lnTo>
                  <a:pt x="22857" y="0"/>
                </a:lnTo>
                <a:lnTo>
                  <a:pt x="22857" y="21600"/>
                </a:lnTo>
                <a:lnTo>
                  <a:pt x="0" y="21600"/>
                </a:lnTo>
                <a:close/>
              </a:path>
              <a:path fill="lightenLess" w="22857" h="21600">
                <a:moveTo>
                  <a:pt x="0" y="0"/>
                </a:moveTo>
                <a:lnTo>
                  <a:pt x="22857" y="0"/>
                </a:lnTo>
                <a:lnTo>
                  <a:pt x="21457" y="1400"/>
                </a:lnTo>
                <a:lnTo>
                  <a:pt x="1400" y="1400"/>
                </a:lnTo>
                <a:close/>
              </a:path>
              <a:path fill="darken" w="22857" h="21600">
                <a:moveTo>
                  <a:pt x="22857" y="0"/>
                </a:moveTo>
                <a:lnTo>
                  <a:pt x="22857" y="21600"/>
                </a:lnTo>
                <a:lnTo>
                  <a:pt x="21457" y="20200"/>
                </a:lnTo>
                <a:lnTo>
                  <a:pt x="21457" y="1400"/>
                </a:lnTo>
                <a:close/>
              </a:path>
              <a:path fill="darkenLess" w="22857" h="21600">
                <a:moveTo>
                  <a:pt x="228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57" y="20200"/>
                </a:lnTo>
                <a:close/>
              </a:path>
              <a:path fill="lighten" w="228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86">
            <a:hlinkClick r:id="rId10" action="ppaction://hlinksldjump"/>
          </p:cNvPr>
          <p:cNvSpPr/>
          <p:nvPr/>
        </p:nvSpPr>
        <p:spPr>
          <a:xfrm>
            <a:off x="4967280" y="4245120"/>
            <a:ext cx="652320" cy="645840"/>
          </a:xfrm>
          <a:custGeom>
            <a:avLst/>
            <a:gdLst>
              <a:gd name="textAreaLeft" fmla="*/ 41760 w 652320"/>
              <a:gd name="textAreaRight" fmla="*/ 610560 w 652320"/>
              <a:gd name="textAreaTop" fmla="*/ 41760 h 645840"/>
              <a:gd name="textAreaBottom" fmla="*/ 604080 h 645840"/>
            </a:gdLst>
            <a:ahLst/>
            <a:rect l="textAreaLeft" t="textAreaTop" r="textAreaRight" b="textAreaBottom"/>
            <a:pathLst>
              <a:path w="21817" h="21600">
                <a:moveTo>
                  <a:pt x="0" y="0"/>
                </a:moveTo>
                <a:lnTo>
                  <a:pt x="21817" y="0"/>
                </a:lnTo>
                <a:lnTo>
                  <a:pt x="21817" y="21600"/>
                </a:lnTo>
                <a:lnTo>
                  <a:pt x="0" y="21600"/>
                </a:lnTo>
                <a:close/>
              </a:path>
              <a:path fill="lightenLess" w="21817" h="21600">
                <a:moveTo>
                  <a:pt x="0" y="0"/>
                </a:moveTo>
                <a:lnTo>
                  <a:pt x="21817" y="0"/>
                </a:lnTo>
                <a:lnTo>
                  <a:pt x="20417" y="1400"/>
                </a:lnTo>
                <a:lnTo>
                  <a:pt x="1400" y="1400"/>
                </a:lnTo>
                <a:close/>
              </a:path>
              <a:path fill="darken" w="21817" h="21600">
                <a:moveTo>
                  <a:pt x="21817" y="0"/>
                </a:moveTo>
                <a:lnTo>
                  <a:pt x="21817" y="21600"/>
                </a:lnTo>
                <a:lnTo>
                  <a:pt x="20417" y="20200"/>
                </a:lnTo>
                <a:lnTo>
                  <a:pt x="20417" y="1400"/>
                </a:lnTo>
                <a:close/>
              </a:path>
              <a:path fill="darkenLess" w="21817" h="21600">
                <a:moveTo>
                  <a:pt x="218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417" y="20200"/>
                </a:lnTo>
                <a:close/>
              </a:path>
              <a:path fill="lighten" w="218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87">
            <a:hlinkClick r:id="rId11" action="ppaction://hlinksldjump"/>
          </p:cNvPr>
          <p:cNvSpPr/>
          <p:nvPr/>
        </p:nvSpPr>
        <p:spPr>
          <a:xfrm>
            <a:off x="5862600" y="4254480"/>
            <a:ext cx="681120" cy="650880"/>
          </a:xfrm>
          <a:custGeom>
            <a:avLst/>
            <a:gdLst>
              <a:gd name="textAreaLeft" fmla="*/ 42120 w 681120"/>
              <a:gd name="textAreaRight" fmla="*/ 639000 w 681120"/>
              <a:gd name="textAreaTop" fmla="*/ 42120 h 650880"/>
              <a:gd name="textAreaBottom" fmla="*/ 608760 h 650880"/>
            </a:gdLst>
            <a:ahLst/>
            <a:rect l="textAreaLeft" t="textAreaTop" r="textAreaRight" b="textAreaBottom"/>
            <a:pathLst>
              <a:path w="22603" h="21600">
                <a:moveTo>
                  <a:pt x="0" y="0"/>
                </a:moveTo>
                <a:lnTo>
                  <a:pt x="22603" y="0"/>
                </a:lnTo>
                <a:lnTo>
                  <a:pt x="22603" y="21600"/>
                </a:lnTo>
                <a:lnTo>
                  <a:pt x="0" y="21600"/>
                </a:lnTo>
                <a:close/>
              </a:path>
              <a:path fill="lightenLess" w="22603" h="21600">
                <a:moveTo>
                  <a:pt x="0" y="0"/>
                </a:moveTo>
                <a:lnTo>
                  <a:pt x="22603" y="0"/>
                </a:lnTo>
                <a:lnTo>
                  <a:pt x="21203" y="1400"/>
                </a:lnTo>
                <a:lnTo>
                  <a:pt x="1400" y="1400"/>
                </a:lnTo>
                <a:close/>
              </a:path>
              <a:path fill="darken" w="22603" h="21600">
                <a:moveTo>
                  <a:pt x="22603" y="0"/>
                </a:moveTo>
                <a:lnTo>
                  <a:pt x="22603" y="21600"/>
                </a:lnTo>
                <a:lnTo>
                  <a:pt x="21203" y="20200"/>
                </a:lnTo>
                <a:lnTo>
                  <a:pt x="21203" y="1400"/>
                </a:lnTo>
                <a:close/>
              </a:path>
              <a:path fill="darkenLess" w="22603" h="21600">
                <a:moveTo>
                  <a:pt x="226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03" y="20200"/>
                </a:lnTo>
                <a:close/>
              </a:path>
              <a:path fill="lighten" w="226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89">
            <a:hlinkClick r:id="rId12" action="ppaction://hlinksldjump"/>
          </p:cNvPr>
          <p:cNvSpPr/>
          <p:nvPr/>
        </p:nvSpPr>
        <p:spPr>
          <a:xfrm>
            <a:off x="3137040" y="5030640"/>
            <a:ext cx="738000" cy="662040"/>
          </a:xfrm>
          <a:custGeom>
            <a:avLst/>
            <a:gdLst>
              <a:gd name="textAreaLeft" fmla="*/ 42840 w 738000"/>
              <a:gd name="textAreaRight" fmla="*/ 695160 w 73800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4077" h="21600">
                <a:moveTo>
                  <a:pt x="0" y="0"/>
                </a:moveTo>
                <a:lnTo>
                  <a:pt x="24077" y="0"/>
                </a:lnTo>
                <a:lnTo>
                  <a:pt x="24077" y="21600"/>
                </a:lnTo>
                <a:lnTo>
                  <a:pt x="0" y="21600"/>
                </a:lnTo>
                <a:close/>
              </a:path>
              <a:path fill="lightenLess" w="24077" h="21600">
                <a:moveTo>
                  <a:pt x="0" y="0"/>
                </a:moveTo>
                <a:lnTo>
                  <a:pt x="24077" y="0"/>
                </a:lnTo>
                <a:lnTo>
                  <a:pt x="22677" y="1400"/>
                </a:lnTo>
                <a:lnTo>
                  <a:pt x="1400" y="1400"/>
                </a:lnTo>
                <a:close/>
              </a:path>
              <a:path fill="darken" w="24077" h="21600">
                <a:moveTo>
                  <a:pt x="24077" y="0"/>
                </a:moveTo>
                <a:lnTo>
                  <a:pt x="24077" y="21600"/>
                </a:lnTo>
                <a:lnTo>
                  <a:pt x="22677" y="20200"/>
                </a:lnTo>
                <a:lnTo>
                  <a:pt x="22677" y="1400"/>
                </a:lnTo>
                <a:close/>
              </a:path>
              <a:path fill="darkenLess" w="24077" h="21600">
                <a:moveTo>
                  <a:pt x="240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77" y="20200"/>
                </a:lnTo>
                <a:close/>
              </a:path>
              <a:path fill="lighten" w="240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2f6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90">
            <a:hlinkClick r:id="rId13" action="ppaction://hlinksldjump"/>
          </p:cNvPr>
          <p:cNvSpPr/>
          <p:nvPr/>
        </p:nvSpPr>
        <p:spPr>
          <a:xfrm>
            <a:off x="4105440" y="5024520"/>
            <a:ext cx="738000" cy="652320"/>
          </a:xfrm>
          <a:custGeom>
            <a:avLst/>
            <a:gdLst>
              <a:gd name="textAreaLeft" fmla="*/ 42120 w 738000"/>
              <a:gd name="textAreaRight" fmla="*/ 695880 w 738000"/>
              <a:gd name="textAreaTop" fmla="*/ 42120 h 652320"/>
              <a:gd name="textAreaBottom" fmla="*/ 610200 h 652320"/>
            </a:gdLst>
            <a:ahLst/>
            <a:rect l="textAreaLeft" t="textAreaTop" r="textAreaRight" b="textAreaBottom"/>
            <a:pathLst>
              <a:path w="24436" h="21600">
                <a:moveTo>
                  <a:pt x="0" y="0"/>
                </a:moveTo>
                <a:lnTo>
                  <a:pt x="24436" y="0"/>
                </a:lnTo>
                <a:lnTo>
                  <a:pt x="24436" y="21600"/>
                </a:lnTo>
                <a:lnTo>
                  <a:pt x="0" y="21600"/>
                </a:lnTo>
                <a:close/>
              </a:path>
              <a:path fill="lightenLess" w="24436" h="21600">
                <a:moveTo>
                  <a:pt x="0" y="0"/>
                </a:moveTo>
                <a:lnTo>
                  <a:pt x="24436" y="0"/>
                </a:lnTo>
                <a:lnTo>
                  <a:pt x="23036" y="1400"/>
                </a:lnTo>
                <a:lnTo>
                  <a:pt x="1400" y="1400"/>
                </a:lnTo>
                <a:close/>
              </a:path>
              <a:path fill="darken" w="24436" h="21600">
                <a:moveTo>
                  <a:pt x="24436" y="0"/>
                </a:moveTo>
                <a:lnTo>
                  <a:pt x="24436" y="21600"/>
                </a:lnTo>
                <a:lnTo>
                  <a:pt x="23036" y="20200"/>
                </a:lnTo>
                <a:lnTo>
                  <a:pt x="23036" y="1400"/>
                </a:lnTo>
                <a:close/>
              </a:path>
              <a:path fill="darkenLess" w="24436" h="21600">
                <a:moveTo>
                  <a:pt x="24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36" y="20200"/>
                </a:lnTo>
                <a:close/>
              </a:path>
              <a:path fill="lighten" w="24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1459c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91">
            <a:hlinkClick r:id="rId14" action="ppaction://hlinksldjump"/>
          </p:cNvPr>
          <p:cNvSpPr/>
          <p:nvPr/>
        </p:nvSpPr>
        <p:spPr>
          <a:xfrm>
            <a:off x="4929120" y="5040360"/>
            <a:ext cx="719280" cy="620640"/>
          </a:xfrm>
          <a:custGeom>
            <a:avLst/>
            <a:gdLst>
              <a:gd name="textAreaLeft" fmla="*/ 39960 w 719280"/>
              <a:gd name="textAreaRight" fmla="*/ 679320 w 71928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5031" h="21600">
                <a:moveTo>
                  <a:pt x="0" y="0"/>
                </a:moveTo>
                <a:lnTo>
                  <a:pt x="25031" y="0"/>
                </a:lnTo>
                <a:lnTo>
                  <a:pt x="25031" y="21600"/>
                </a:lnTo>
                <a:lnTo>
                  <a:pt x="0" y="21600"/>
                </a:lnTo>
                <a:close/>
              </a:path>
              <a:path fill="lightenLess" w="25031" h="21600">
                <a:moveTo>
                  <a:pt x="0" y="0"/>
                </a:moveTo>
                <a:lnTo>
                  <a:pt x="25031" y="0"/>
                </a:lnTo>
                <a:lnTo>
                  <a:pt x="23631" y="1400"/>
                </a:lnTo>
                <a:lnTo>
                  <a:pt x="1400" y="1400"/>
                </a:lnTo>
                <a:close/>
              </a:path>
              <a:path fill="darken" w="25031" h="21600">
                <a:moveTo>
                  <a:pt x="25031" y="0"/>
                </a:moveTo>
                <a:lnTo>
                  <a:pt x="25031" y="21600"/>
                </a:lnTo>
                <a:lnTo>
                  <a:pt x="23631" y="20200"/>
                </a:lnTo>
                <a:lnTo>
                  <a:pt x="23631" y="1400"/>
                </a:lnTo>
                <a:close/>
              </a:path>
              <a:path fill="darkenLess" w="25031" h="21600">
                <a:moveTo>
                  <a:pt x="250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31" y="20200"/>
                </a:lnTo>
                <a:close/>
              </a:path>
              <a:path fill="lighten" w="250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1459c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92">
            <a:hlinkClick r:id="rId15" action="ppaction://hlinksldjump"/>
          </p:cNvPr>
          <p:cNvSpPr/>
          <p:nvPr/>
        </p:nvSpPr>
        <p:spPr>
          <a:xfrm>
            <a:off x="5824440" y="5005440"/>
            <a:ext cx="728640" cy="662040"/>
          </a:xfrm>
          <a:custGeom>
            <a:avLst/>
            <a:gdLst>
              <a:gd name="textAreaLeft" fmla="*/ 42840 w 728640"/>
              <a:gd name="textAreaRight" fmla="*/ 685800 w 72864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3772" h="21600">
                <a:moveTo>
                  <a:pt x="0" y="0"/>
                </a:moveTo>
                <a:lnTo>
                  <a:pt x="23772" y="0"/>
                </a:lnTo>
                <a:lnTo>
                  <a:pt x="23772" y="21600"/>
                </a:lnTo>
                <a:lnTo>
                  <a:pt x="0" y="21600"/>
                </a:lnTo>
                <a:close/>
              </a:path>
              <a:path fill="lightenLess" w="23772" h="21600">
                <a:moveTo>
                  <a:pt x="0" y="0"/>
                </a:moveTo>
                <a:lnTo>
                  <a:pt x="23772" y="0"/>
                </a:lnTo>
                <a:lnTo>
                  <a:pt x="22372" y="1400"/>
                </a:lnTo>
                <a:lnTo>
                  <a:pt x="1400" y="1400"/>
                </a:lnTo>
                <a:close/>
              </a:path>
              <a:path fill="darken" w="23772" h="21600">
                <a:moveTo>
                  <a:pt x="23772" y="0"/>
                </a:moveTo>
                <a:lnTo>
                  <a:pt x="23772" y="21600"/>
                </a:lnTo>
                <a:lnTo>
                  <a:pt x="22372" y="20200"/>
                </a:lnTo>
                <a:lnTo>
                  <a:pt x="22372" y="1400"/>
                </a:lnTo>
                <a:close/>
              </a:path>
              <a:path fill="darkenLess" w="23772" h="21600">
                <a:moveTo>
                  <a:pt x="237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72" y="20200"/>
                </a:lnTo>
                <a:close/>
              </a:path>
              <a:path fill="lighten" w="237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1459c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94">
            <a:hlinkClick r:id="rId16" action="ppaction://hlinksldjump"/>
          </p:cNvPr>
          <p:cNvSpPr/>
          <p:nvPr/>
        </p:nvSpPr>
        <p:spPr>
          <a:xfrm>
            <a:off x="5886360" y="2673360"/>
            <a:ext cx="681120" cy="614520"/>
          </a:xfrm>
          <a:custGeom>
            <a:avLst/>
            <a:gdLst>
              <a:gd name="textAreaLeft" fmla="*/ 39600 w 681120"/>
              <a:gd name="textAreaRight" fmla="*/ 641520 w 681120"/>
              <a:gd name="textAreaTop" fmla="*/ 39600 h 614520"/>
              <a:gd name="textAreaBottom" fmla="*/ 574920 h 614520"/>
            </a:gdLst>
            <a:ahLst/>
            <a:rect l="textAreaLeft" t="textAreaTop" r="textAreaRight" b="textAreaBottom"/>
            <a:pathLst>
              <a:path w="23940" h="21600">
                <a:moveTo>
                  <a:pt x="0" y="0"/>
                </a:moveTo>
                <a:lnTo>
                  <a:pt x="23940" y="0"/>
                </a:lnTo>
                <a:lnTo>
                  <a:pt x="23940" y="21600"/>
                </a:lnTo>
                <a:lnTo>
                  <a:pt x="0" y="21600"/>
                </a:lnTo>
                <a:close/>
              </a:path>
              <a:path fill="lightenLess" w="23940" h="21600">
                <a:moveTo>
                  <a:pt x="0" y="0"/>
                </a:moveTo>
                <a:lnTo>
                  <a:pt x="23940" y="0"/>
                </a:lnTo>
                <a:lnTo>
                  <a:pt x="22540" y="1400"/>
                </a:lnTo>
                <a:lnTo>
                  <a:pt x="1400" y="1400"/>
                </a:lnTo>
                <a:close/>
              </a:path>
              <a:path fill="darken" w="23940" h="21600">
                <a:moveTo>
                  <a:pt x="23940" y="0"/>
                </a:moveTo>
                <a:lnTo>
                  <a:pt x="23940" y="21600"/>
                </a:lnTo>
                <a:lnTo>
                  <a:pt x="22540" y="20200"/>
                </a:lnTo>
                <a:lnTo>
                  <a:pt x="22540" y="1400"/>
                </a:lnTo>
                <a:close/>
              </a:path>
              <a:path fill="darkenLess" w="23940" h="21600">
                <a:moveTo>
                  <a:pt x="239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40" y="20200"/>
                </a:lnTo>
                <a:close/>
              </a:path>
              <a:path fill="lighten" w="239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2f69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01"/>
          <p:cNvSpPr/>
          <p:nvPr/>
        </p:nvSpPr>
        <p:spPr>
          <a:xfrm>
            <a:off x="855720" y="917640"/>
            <a:ext cx="743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КОНСТИТУЦИЯ  И  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8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98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499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499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500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500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501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501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502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502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503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503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504"/>
                    </p:tgtEl>
                  </p:cond>
                </p:stCondLst>
                <p:childTnLst>
                  <p:par>
                    <p:cTn id="39" nodeType="clickEffect" fill="hold">
                      <p:stCondLst>
                        <p:cond evt="onClick">
                          <p:tgtEl>
                            <p:spTgt spid="504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505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505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506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506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507"/>
                    </p:tgtEl>
                  </p:cond>
                </p:stCondLst>
                <p:childTnLst>
                  <p:par>
                    <p:cTn id="57" nodeType="clickEffect" fill="hold">
                      <p:stCondLst>
                        <p:cond evt="onClick">
                          <p:tgtEl>
                            <p:spTgt spid="507"/>
                          </p:tgtEl>
                        </p:cond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508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508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509"/>
                    </p:tgtEl>
                  </p:cond>
                </p:stCondLst>
                <p:childTnLst>
                  <p:par>
                    <p:cTn id="69" nodeType="clickEffect" fill="hold">
                      <p:stCondLst>
                        <p:cond evt="onClick">
                          <p:tgtEl>
                            <p:spTgt spid="509"/>
                          </p:tgtEl>
                        </p:cond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510"/>
                    </p:tgtEl>
                  </p:cond>
                </p:stCondLst>
                <p:childTnLst>
                  <p:par>
                    <p:cTn id="75" nodeType="clickEffect" fill="hold">
                      <p:stCondLst>
                        <p:cond evt="onClick">
                          <p:tgtEl>
                            <p:spTgt spid="510"/>
                          </p:tgtEl>
                        </p:cond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511"/>
                    </p:tgtEl>
                  </p:cond>
                </p:stCondLst>
                <p:childTnLst>
                  <p:par>
                    <p:cTn id="81" nodeType="clickEffect" fill="hold">
                      <p:stCondLst>
                        <p:cond evt="onClick">
                          <p:tgtEl>
                            <p:spTgt spid="511"/>
                          </p:tgtEl>
                        </p:cond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512"/>
                    </p:tgtEl>
                  </p:cond>
                </p:stCondLst>
                <p:childTnLst>
                  <p:par>
                    <p:cTn id="87" nodeType="clickEffect" fill="hold">
                      <p:stCondLst>
                        <p:cond evt="onClick">
                          <p:tgtEl>
                            <p:spTgt spid="512"/>
                          </p:tgtEl>
                        </p:cond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513"/>
                    </p:tgtEl>
                  </p:cond>
                </p:stCondLst>
                <p:childTnLst>
                  <p:par>
                    <p:cTn id="93" nodeType="clickEffect" fill="hold">
                      <p:stCondLst>
                        <p:cond evt="onClick">
                          <p:tgtEl>
                            <p:spTgt spid="513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960480" y="384120"/>
            <a:ext cx="7488360" cy="628488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4"/>
          <p:cNvSpPr/>
          <p:nvPr/>
        </p:nvSpPr>
        <p:spPr>
          <a:xfrm>
            <a:off x="2504160" y="1568520"/>
            <a:ext cx="500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Статья 20  Конституции Р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5"/>
          <p:cNvSpPr/>
          <p:nvPr/>
        </p:nvSpPr>
        <p:spPr>
          <a:xfrm>
            <a:off x="1571760" y="2604960"/>
            <a:ext cx="75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ждый  имеет  право  на  жизнь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6"/>
          <p:cNvSpPr/>
          <p:nvPr/>
        </p:nvSpPr>
        <p:spPr>
          <a:xfrm>
            <a:off x="7763040" y="5762520"/>
            <a:ext cx="795240" cy="795600"/>
          </a:xfrm>
          <a:custGeom>
            <a:avLst/>
            <a:gdLst>
              <a:gd name="textAreaLeft" fmla="*/ 51480 w 795240"/>
              <a:gd name="textAreaRight" fmla="*/ 743760 w 795240"/>
              <a:gd name="textAreaTop" fmla="*/ 51480 h 795600"/>
              <a:gd name="textAreaBottom" fmla="*/ 744120 h 79560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7"/>
                </a:moveTo>
                <a:lnTo>
                  <a:pt x="7301" y="7497"/>
                </a:lnTo>
                <a:lnTo>
                  <a:pt x="7301" y="12833"/>
                </a:lnTo>
                <a:cubicBezTo>
                  <a:pt x="7301" y="13755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5"/>
                  <a:pt x="12636" y="12833"/>
                </a:cubicBezTo>
                <a:lnTo>
                  <a:pt x="12636" y="7497"/>
                </a:lnTo>
                <a:lnTo>
                  <a:pt x="10800" y="7497"/>
                </a:lnTo>
                <a:lnTo>
                  <a:pt x="14308" y="3990"/>
                </a:lnTo>
                <a:lnTo>
                  <a:pt x="17981" y="7497"/>
                </a:lnTo>
                <a:lnTo>
                  <a:pt x="16144" y="7497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ef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8"/>
          <p:cNvSpPr/>
          <p:nvPr/>
        </p:nvSpPr>
        <p:spPr>
          <a:xfrm>
            <a:off x="814320" y="379440"/>
            <a:ext cx="7488360" cy="628488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4"/>
          <p:cNvSpPr/>
          <p:nvPr/>
        </p:nvSpPr>
        <p:spPr>
          <a:xfrm>
            <a:off x="2293920" y="1984320"/>
            <a:ext cx="471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1459c"/>
                </a:solidFill>
                <a:latin typeface="Arial"/>
              </a:rPr>
              <a:t>  </a:t>
            </a:r>
            <a:r>
              <a:rPr b="1" lang="ru-RU" sz="5400" spc="-1" strike="noStrike">
                <a:solidFill>
                  <a:srgbClr val="31459c"/>
                </a:solidFill>
                <a:latin typeface="Arial"/>
              </a:rPr>
              <a:t>Категор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5"/>
          <p:cNvSpPr/>
          <p:nvPr/>
        </p:nvSpPr>
        <p:spPr>
          <a:xfrm>
            <a:off x="420840" y="3313080"/>
            <a:ext cx="8070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          </a:t>
            </a:r>
            <a:r>
              <a:rPr b="1" lang="ru-RU" sz="6600" spc="-1" strike="noStrike">
                <a:solidFill>
                  <a:srgbClr val="cc0000"/>
                </a:solidFill>
                <a:latin typeface="Arial"/>
              </a:rPr>
              <a:t>Обязанности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6">
            <a:hlinkClick r:id="rId1"/>
          </p:cNvPr>
          <p:cNvSpPr/>
          <p:nvPr/>
        </p:nvSpPr>
        <p:spPr>
          <a:xfrm>
            <a:off x="8026560" y="5918040"/>
            <a:ext cx="871200" cy="722520"/>
          </a:xfrm>
          <a:custGeom>
            <a:avLst/>
            <a:gdLst>
              <a:gd name="textAreaLeft" fmla="*/ 46800 w 871200"/>
              <a:gd name="textAreaRight" fmla="*/ 824400 w 871200"/>
              <a:gd name="textAreaTop" fmla="*/ 46800 h 722520"/>
              <a:gd name="textAreaBottom" fmla="*/ 675720 h 722520"/>
            </a:gdLst>
            <a:ahLst/>
            <a:rect l="textAreaLeft" t="textAreaTop" r="textAreaRight" b="textAreaBottom"/>
            <a:pathLst>
              <a:path w="26043" h="21600">
                <a:moveTo>
                  <a:pt x="0" y="0"/>
                </a:moveTo>
                <a:lnTo>
                  <a:pt x="26043" y="0"/>
                </a:lnTo>
                <a:lnTo>
                  <a:pt x="26043" y="21600"/>
                </a:lnTo>
                <a:lnTo>
                  <a:pt x="0" y="21600"/>
                </a:lnTo>
                <a:close/>
              </a:path>
              <a:path fill="lightenLess" w="26043" h="21600">
                <a:moveTo>
                  <a:pt x="0" y="0"/>
                </a:moveTo>
                <a:lnTo>
                  <a:pt x="26043" y="0"/>
                </a:lnTo>
                <a:lnTo>
                  <a:pt x="24643" y="1400"/>
                </a:lnTo>
                <a:lnTo>
                  <a:pt x="1400" y="1400"/>
                </a:lnTo>
                <a:close/>
              </a:path>
              <a:path fill="darken" w="26043" h="21600">
                <a:moveTo>
                  <a:pt x="26043" y="0"/>
                </a:moveTo>
                <a:lnTo>
                  <a:pt x="26043" y="21600"/>
                </a:lnTo>
                <a:lnTo>
                  <a:pt x="24643" y="20200"/>
                </a:lnTo>
                <a:lnTo>
                  <a:pt x="24643" y="1400"/>
                </a:lnTo>
                <a:close/>
              </a:path>
              <a:path fill="darkenLess" w="26043" h="21600">
                <a:moveTo>
                  <a:pt x="260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43" y="20200"/>
                </a:lnTo>
                <a:close/>
              </a:path>
              <a:path fill="lighten" w="260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43" h="21600">
                <a:moveTo>
                  <a:pt x="6015" y="3794"/>
                </a:moveTo>
                <a:lnTo>
                  <a:pt x="20028" y="10800"/>
                </a:lnTo>
                <a:lnTo>
                  <a:pt x="6015" y="17806"/>
                </a:lnTo>
                <a:close/>
              </a:path>
            </a:pathLst>
          </a:custGeom>
          <a:solidFill>
            <a:srgbClr val="ef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9" descr="4048"/>
          <p:cNvPicPr/>
          <p:nvPr/>
        </p:nvPicPr>
        <p:blipFill>
          <a:blip r:embed="rId1"/>
          <a:stretch/>
        </p:blipFill>
        <p:spPr>
          <a:xfrm>
            <a:off x="806400" y="587520"/>
            <a:ext cx="7620120" cy="56689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6"/>
          <p:cNvSpPr/>
          <p:nvPr/>
        </p:nvSpPr>
        <p:spPr>
          <a:xfrm>
            <a:off x="685800" y="355680"/>
            <a:ext cx="7488360" cy="628488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4"/>
          <p:cNvSpPr/>
          <p:nvPr/>
        </p:nvSpPr>
        <p:spPr>
          <a:xfrm>
            <a:off x="407880" y="1585800"/>
            <a:ext cx="7601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щита Отечества является долг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  обязанностью  граждани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ссийской  Федер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1459c"/>
                </a:solidFill>
                <a:latin typeface="Arial"/>
              </a:rPr>
              <a:t>                              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(ст.59 Конституции РФ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7" descr="Caregiving"/>
          <p:cNvPicPr/>
          <p:nvPr/>
        </p:nvPicPr>
        <p:blipFill>
          <a:blip r:embed="rId1"/>
          <a:stretch/>
        </p:blipFill>
        <p:spPr>
          <a:xfrm>
            <a:off x="800280" y="763560"/>
            <a:ext cx="7511760" cy="55213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685800" y="326880"/>
            <a:ext cx="7488360" cy="628488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6"/>
          <p:cNvSpPr/>
          <p:nvPr/>
        </p:nvSpPr>
        <p:spPr>
          <a:xfrm>
            <a:off x="787320" y="282600"/>
            <a:ext cx="7488360" cy="628488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4"/>
          <p:cNvSpPr/>
          <p:nvPr/>
        </p:nvSpPr>
        <p:spPr>
          <a:xfrm>
            <a:off x="1336680" y="1978200"/>
            <a:ext cx="621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удоспособные дети , достигшие 18 лет, должны заботиться о нетрудоспособных родител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               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(ст.38 Конституции РФ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7" descr="22"/>
          <p:cNvPicPr/>
          <p:nvPr/>
        </p:nvPicPr>
        <p:blipFill>
          <a:blip r:embed="rId1"/>
          <a:stretch/>
        </p:blipFill>
        <p:spPr>
          <a:xfrm>
            <a:off x="725400" y="314280"/>
            <a:ext cx="7721640" cy="60134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6"/>
          <p:cNvSpPr/>
          <p:nvPr/>
        </p:nvSpPr>
        <p:spPr>
          <a:xfrm>
            <a:off x="946080" y="225360"/>
            <a:ext cx="7488360" cy="628488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4"/>
          <p:cNvSpPr/>
          <p:nvPr/>
        </p:nvSpPr>
        <p:spPr>
          <a:xfrm>
            <a:off x="1009800" y="1144440"/>
            <a:ext cx="7372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ое общее образование обязательн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дители или лица их заменяющи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еспечивают получение детьми основного общего образ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1459c"/>
                </a:solidFill>
                <a:latin typeface="Arial"/>
              </a:rPr>
              <a:t>                            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(ст.43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Конституции РФ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4" descr="deti-roditeli-zabota"/>
          <p:cNvPicPr/>
          <p:nvPr/>
        </p:nvPicPr>
        <p:blipFill>
          <a:blip r:embed="rId1"/>
          <a:stretch/>
        </p:blipFill>
        <p:spPr>
          <a:xfrm>
            <a:off x="609480" y="579600"/>
            <a:ext cx="7925040" cy="57783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6"/>
          <p:cNvSpPr/>
          <p:nvPr/>
        </p:nvSpPr>
        <p:spPr>
          <a:xfrm>
            <a:off x="684360" y="195120"/>
            <a:ext cx="7488000" cy="628488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4"/>
          <p:cNvSpPr/>
          <p:nvPr/>
        </p:nvSpPr>
        <p:spPr>
          <a:xfrm>
            <a:off x="765000" y="1773360"/>
            <a:ext cx="7405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бота о детях, их воспитание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язанность родите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                              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(ст.38 Конституции РФ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8"/>
          <p:cNvSpPr/>
          <p:nvPr/>
        </p:nvSpPr>
        <p:spPr>
          <a:xfrm>
            <a:off x="814320" y="379440"/>
            <a:ext cx="7488360" cy="628488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4"/>
          <p:cNvSpPr/>
          <p:nvPr/>
        </p:nvSpPr>
        <p:spPr>
          <a:xfrm>
            <a:off x="2293920" y="1984320"/>
            <a:ext cx="471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1459c"/>
                </a:solidFill>
                <a:latin typeface="Arial"/>
              </a:rPr>
              <a:t>  </a:t>
            </a:r>
            <a:r>
              <a:rPr b="1" lang="ru-RU" sz="5400" spc="-1" strike="noStrike">
                <a:solidFill>
                  <a:srgbClr val="31459c"/>
                </a:solidFill>
                <a:latin typeface="Arial"/>
              </a:rPr>
              <a:t>Категор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5"/>
          <p:cNvSpPr/>
          <p:nvPr/>
        </p:nvSpPr>
        <p:spPr>
          <a:xfrm>
            <a:off x="420840" y="3313080"/>
            <a:ext cx="8070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ru-RU" sz="6600" spc="-1" strike="noStrike">
                <a:solidFill>
                  <a:srgbClr val="cc0000"/>
                </a:solidFill>
                <a:latin typeface="Arial"/>
              </a:rPr>
              <a:t>Простой вопрос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6">
            <a:hlinkClick r:id="rId1" action="ppaction://hlinksldjump"/>
          </p:cNvPr>
          <p:cNvSpPr/>
          <p:nvPr/>
        </p:nvSpPr>
        <p:spPr>
          <a:xfrm>
            <a:off x="8026560" y="5918040"/>
            <a:ext cx="871200" cy="722520"/>
          </a:xfrm>
          <a:custGeom>
            <a:avLst/>
            <a:gdLst>
              <a:gd name="textAreaLeft" fmla="*/ 46800 w 871200"/>
              <a:gd name="textAreaRight" fmla="*/ 824400 w 871200"/>
              <a:gd name="textAreaTop" fmla="*/ 46800 h 722520"/>
              <a:gd name="textAreaBottom" fmla="*/ 675720 h 722520"/>
            </a:gdLst>
            <a:ahLst/>
            <a:rect l="textAreaLeft" t="textAreaTop" r="textAreaRight" b="textAreaBottom"/>
            <a:pathLst>
              <a:path w="26043" h="21600">
                <a:moveTo>
                  <a:pt x="0" y="0"/>
                </a:moveTo>
                <a:lnTo>
                  <a:pt x="26043" y="0"/>
                </a:lnTo>
                <a:lnTo>
                  <a:pt x="26043" y="21600"/>
                </a:lnTo>
                <a:lnTo>
                  <a:pt x="0" y="21600"/>
                </a:lnTo>
                <a:close/>
              </a:path>
              <a:path fill="lightenLess" w="26043" h="21600">
                <a:moveTo>
                  <a:pt x="0" y="0"/>
                </a:moveTo>
                <a:lnTo>
                  <a:pt x="26043" y="0"/>
                </a:lnTo>
                <a:lnTo>
                  <a:pt x="24643" y="1400"/>
                </a:lnTo>
                <a:lnTo>
                  <a:pt x="1400" y="1400"/>
                </a:lnTo>
                <a:close/>
              </a:path>
              <a:path fill="darken" w="26043" h="21600">
                <a:moveTo>
                  <a:pt x="26043" y="0"/>
                </a:moveTo>
                <a:lnTo>
                  <a:pt x="26043" y="21600"/>
                </a:lnTo>
                <a:lnTo>
                  <a:pt x="24643" y="20200"/>
                </a:lnTo>
                <a:lnTo>
                  <a:pt x="24643" y="1400"/>
                </a:lnTo>
                <a:close/>
              </a:path>
              <a:path fill="darkenLess" w="26043" h="21600">
                <a:moveTo>
                  <a:pt x="260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43" y="20200"/>
                </a:lnTo>
                <a:close/>
              </a:path>
              <a:path fill="lighten" w="260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43" h="21600">
                <a:moveTo>
                  <a:pt x="6015" y="3794"/>
                </a:moveTo>
                <a:lnTo>
                  <a:pt x="20028" y="10800"/>
                </a:lnTo>
                <a:lnTo>
                  <a:pt x="6015" y="17806"/>
                </a:lnTo>
                <a:close/>
              </a:path>
            </a:pathLst>
          </a:custGeom>
          <a:solidFill>
            <a:srgbClr val="ef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Picture 7" descr="50bbb34a05c666e9f569a50eb"/>
          <p:cNvPicPr/>
          <p:nvPr/>
        </p:nvPicPr>
        <p:blipFill>
          <a:blip r:embed="rId1"/>
          <a:stretch/>
        </p:blipFill>
        <p:spPr>
          <a:xfrm>
            <a:off x="507960" y="246240"/>
            <a:ext cx="8099640" cy="62420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6"/>
          <p:cNvSpPr/>
          <p:nvPr/>
        </p:nvSpPr>
        <p:spPr>
          <a:xfrm>
            <a:off x="611280" y="237960"/>
            <a:ext cx="7807320" cy="628524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4"/>
          <p:cNvSpPr/>
          <p:nvPr/>
        </p:nvSpPr>
        <p:spPr>
          <a:xfrm>
            <a:off x="1353960" y="1386000"/>
            <a:ext cx="6096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ждый обязан платить законно установленные налоги и сборы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               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(ст.57  Конституции РФ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8"/>
          <p:cNvSpPr/>
          <p:nvPr/>
        </p:nvSpPr>
        <p:spPr>
          <a:xfrm>
            <a:off x="814320" y="379440"/>
            <a:ext cx="7488360" cy="628488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4"/>
          <p:cNvSpPr/>
          <p:nvPr/>
        </p:nvSpPr>
        <p:spPr>
          <a:xfrm>
            <a:off x="2293920" y="1984320"/>
            <a:ext cx="471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1459c"/>
                </a:solidFill>
                <a:latin typeface="Arial"/>
              </a:rPr>
              <a:t>  </a:t>
            </a:r>
            <a:r>
              <a:rPr b="1" lang="ru-RU" sz="5400" spc="-1" strike="noStrike">
                <a:solidFill>
                  <a:srgbClr val="31459c"/>
                </a:solidFill>
                <a:latin typeface="Arial"/>
              </a:rPr>
              <a:t>Категор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5"/>
          <p:cNvSpPr/>
          <p:nvPr/>
        </p:nvSpPr>
        <p:spPr>
          <a:xfrm>
            <a:off x="420840" y="3313080"/>
            <a:ext cx="8070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          </a:t>
            </a:r>
            <a:r>
              <a:rPr b="1" lang="ru-RU" sz="6600" spc="-1" strike="noStrike">
                <a:solidFill>
                  <a:srgbClr val="cc0000"/>
                </a:solidFill>
                <a:latin typeface="Arial"/>
              </a:rPr>
              <a:t>Символика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Text Box 4"/>
          <p:cNvSpPr/>
          <p:nvPr/>
        </p:nvSpPr>
        <p:spPr>
          <a:xfrm>
            <a:off x="2917440" y="434880"/>
            <a:ext cx="298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1459c"/>
                </a:solidFill>
                <a:latin typeface="Arial"/>
              </a:rPr>
              <a:t>    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ФЛАГ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Picture 5" descr="685613853"/>
          <p:cNvPicPr/>
          <p:nvPr/>
        </p:nvPicPr>
        <p:blipFill>
          <a:blip r:embed="rId1"/>
          <a:stretch/>
        </p:blipFill>
        <p:spPr>
          <a:xfrm>
            <a:off x="0" y="4444920"/>
            <a:ext cx="3619440" cy="2413080"/>
          </a:xfrm>
          <a:prstGeom prst="rect">
            <a:avLst/>
          </a:prstGeom>
          <a:ln w="0">
            <a:noFill/>
          </a:ln>
        </p:spPr>
      </p:pic>
      <p:sp>
        <p:nvSpPr>
          <p:cNvPr id="605" name="Text Box 6"/>
          <p:cNvSpPr/>
          <p:nvPr/>
        </p:nvSpPr>
        <p:spPr>
          <a:xfrm>
            <a:off x="4390560" y="5646600"/>
            <a:ext cx="277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ИДЕРЛАН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7" descr="551062256"/>
          <p:cNvPicPr/>
          <p:nvPr/>
        </p:nvPicPr>
        <p:blipFill>
          <a:blip r:embed="rId2"/>
          <a:stretch/>
        </p:blipFill>
        <p:spPr>
          <a:xfrm>
            <a:off x="5257800" y="1817640"/>
            <a:ext cx="3610080" cy="2411640"/>
          </a:xfrm>
          <a:prstGeom prst="rect">
            <a:avLst/>
          </a:prstGeom>
          <a:ln w="0">
            <a:noFill/>
          </a:ln>
        </p:spPr>
      </p:pic>
      <p:sp>
        <p:nvSpPr>
          <p:cNvPr id="607" name="Text Box 8"/>
          <p:cNvSpPr/>
          <p:nvPr/>
        </p:nvSpPr>
        <p:spPr>
          <a:xfrm>
            <a:off x="5990040" y="4532400"/>
            <a:ext cx="171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ОС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9" descr="642435582"/>
          <p:cNvPicPr/>
          <p:nvPr/>
        </p:nvPicPr>
        <p:blipFill>
          <a:blip r:embed="rId3"/>
          <a:stretch/>
        </p:blipFill>
        <p:spPr>
          <a:xfrm>
            <a:off x="654120" y="1049400"/>
            <a:ext cx="3956040" cy="2384280"/>
          </a:xfrm>
          <a:prstGeom prst="rect">
            <a:avLst/>
          </a:prstGeom>
          <a:ln w="0">
            <a:noFill/>
          </a:ln>
        </p:spPr>
      </p:pic>
      <p:sp>
        <p:nvSpPr>
          <p:cNvPr id="609" name="Text Box 10"/>
          <p:cNvSpPr/>
          <p:nvPr/>
        </p:nvSpPr>
        <p:spPr>
          <a:xfrm>
            <a:off x="1284840" y="3589200"/>
            <a:ext cx="215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РАГВА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utoShape 11"/>
          <p:cNvSpPr/>
          <p:nvPr/>
        </p:nvSpPr>
        <p:spPr>
          <a:xfrm>
            <a:off x="8126280" y="5827680"/>
            <a:ext cx="757440" cy="747720"/>
          </a:xfrm>
          <a:custGeom>
            <a:avLst/>
            <a:gdLst>
              <a:gd name="textAreaLeft" fmla="*/ 48240 w 757440"/>
              <a:gd name="textAreaRight" fmla="*/ 709200 w 757440"/>
              <a:gd name="textAreaTop" fmla="*/ 48240 h 747720"/>
              <a:gd name="textAreaBottom" fmla="*/ 699480 h 747720"/>
            </a:gdLst>
            <a:ahLst/>
            <a:rect l="textAreaLeft" t="textAreaTop" r="textAreaRight" b="textAreaBottom"/>
            <a:pathLst>
              <a:path w="21881" h="21600">
                <a:moveTo>
                  <a:pt x="0" y="0"/>
                </a:moveTo>
                <a:lnTo>
                  <a:pt x="21881" y="0"/>
                </a:lnTo>
                <a:lnTo>
                  <a:pt x="21881" y="21600"/>
                </a:lnTo>
                <a:lnTo>
                  <a:pt x="0" y="21600"/>
                </a:lnTo>
                <a:close/>
              </a:path>
              <a:path fill="lightenLess" w="21881" h="21600">
                <a:moveTo>
                  <a:pt x="0" y="0"/>
                </a:moveTo>
                <a:lnTo>
                  <a:pt x="21881" y="0"/>
                </a:lnTo>
                <a:lnTo>
                  <a:pt x="20481" y="1400"/>
                </a:lnTo>
                <a:lnTo>
                  <a:pt x="1400" y="1400"/>
                </a:lnTo>
                <a:close/>
              </a:path>
              <a:path fill="darken" w="21881" h="21600">
                <a:moveTo>
                  <a:pt x="21881" y="0"/>
                </a:moveTo>
                <a:lnTo>
                  <a:pt x="21881" y="21600"/>
                </a:lnTo>
                <a:lnTo>
                  <a:pt x="20481" y="20200"/>
                </a:lnTo>
                <a:lnTo>
                  <a:pt x="20481" y="1400"/>
                </a:lnTo>
                <a:close/>
              </a:path>
              <a:path fill="darkenLess" w="21881" h="21600">
                <a:moveTo>
                  <a:pt x="21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481" y="20200"/>
                </a:lnTo>
                <a:close/>
              </a:path>
              <a:path fill="lighten" w="21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881" h="21600">
                <a:moveTo>
                  <a:pt x="3934" y="7493"/>
                </a:moveTo>
                <a:lnTo>
                  <a:pt x="7441" y="7493"/>
                </a:lnTo>
                <a:lnTo>
                  <a:pt x="7441" y="12828"/>
                </a:lnTo>
                <a:cubicBezTo>
                  <a:pt x="7441" y="13751"/>
                  <a:pt x="8242" y="14482"/>
                  <a:pt x="9278" y="14482"/>
                </a:cubicBezTo>
                <a:lnTo>
                  <a:pt x="10940" y="14482"/>
                </a:lnTo>
                <a:cubicBezTo>
                  <a:pt x="11976" y="14482"/>
                  <a:pt x="12777" y="13751"/>
                  <a:pt x="12777" y="12828"/>
                </a:cubicBezTo>
                <a:lnTo>
                  <a:pt x="12777" y="7493"/>
                </a:lnTo>
                <a:lnTo>
                  <a:pt x="10940" y="7493"/>
                </a:lnTo>
                <a:lnTo>
                  <a:pt x="14448" y="3985"/>
                </a:lnTo>
                <a:lnTo>
                  <a:pt x="18121" y="7493"/>
                </a:lnTo>
                <a:lnTo>
                  <a:pt x="16284" y="7493"/>
                </a:lnTo>
                <a:lnTo>
                  <a:pt x="16284" y="12828"/>
                </a:lnTo>
                <a:cubicBezTo>
                  <a:pt x="16284" y="15596"/>
                  <a:pt x="13708" y="18155"/>
                  <a:pt x="10940" y="18155"/>
                </a:cubicBezTo>
                <a:lnTo>
                  <a:pt x="9278" y="18155"/>
                </a:lnTo>
                <a:cubicBezTo>
                  <a:pt x="6510" y="18155"/>
                  <a:pt x="3934" y="15596"/>
                  <a:pt x="3934" y="12828"/>
                </a:cubicBezTo>
                <a:close/>
              </a:path>
            </a:pathLst>
          </a:custGeom>
          <a:solidFill>
            <a:srgbClr val="ef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12"/>
          <p:cNvSpPr/>
          <p:nvPr/>
        </p:nvSpPr>
        <p:spPr>
          <a:xfrm>
            <a:off x="509760" y="34750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13"/>
          <p:cNvSpPr/>
          <p:nvPr/>
        </p:nvSpPr>
        <p:spPr>
          <a:xfrm>
            <a:off x="5462640" y="44845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14"/>
          <p:cNvSpPr/>
          <p:nvPr/>
        </p:nvSpPr>
        <p:spPr>
          <a:xfrm>
            <a:off x="3729240" y="51325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часы.wav" descr=""/>
          <p:cNvPicPr/>
          <p:nvPr/>
        </p:nvPicPr>
        <p:blipFill>
          <a:blip r:embed="rId4"/>
          <a:stretch/>
        </p:blipFill>
        <p:spPr>
          <a:xfrm>
            <a:off x="7543800" y="6334200"/>
            <a:ext cx="219240" cy="2188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  <p:timing>
    <p:tnLst>
      <p:par>
        <p:cTn id="179" dur="indefinite" restart="never" nodeType="tmRoot">
          <p:childTnLst>
            <p:seq>
              <p:cTn id="180" restart="whenNotActive" nodeType="interactiveSeq" fill="hold">
                <p:stCondLst>
                  <p:cond evt="onClick">
                    <p:tgtEl>
                      <p:spTgt spid="611"/>
                    </p:tgtEl>
                  </p:cond>
                </p:stCondLst>
                <p:childTnLst>
                  <p:par>
                    <p:cTn id="181" nodeType="clickEffect" fill="hold">
                      <p:stCondLst>
                        <p:cond evt="onClick">
                          <p:tgtEl>
                            <p:spTgt spid="611"/>
                          </p:tgtEl>
                        </p:cond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612"/>
                    </p:tgtEl>
                  </p:cond>
                </p:stCondLst>
                <p:childTnLst>
                  <p:par>
                    <p:cTn id="190" nodeType="clickEffect" fill="hold">
                      <p:stCondLst>
                        <p:cond evt="onClick">
                          <p:tgtEl>
                            <p:spTgt spid="612"/>
                          </p:tgtEl>
                        </p:cond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613"/>
                    </p:tgtEl>
                  </p:cond>
                </p:stCondLst>
                <p:childTnLst>
                  <p:par>
                    <p:cTn id="199" nodeType="clickEffect" fill="hold">
                      <p:stCondLst>
                        <p:cond evt="onClick">
                          <p:tgtEl>
                            <p:spTgt spid="613"/>
                          </p:tgtEl>
                        </p:cond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" restart="whenNotActive" nodeType="interactiveSeq" fill="hold">
                <p:stCondLst>
                  <p:cond evt="onClick">
                    <p:tgtEl>
                      <p:spTgt spid="614"/>
                    </p:tgtEl>
                  </p:cond>
                </p:stCondLst>
                <p:childTnLst>
                  <p:par>
                    <p:cTn id="208" nodeType="clickEffect" fill="hold">
                      <p:stCondLst>
                        <p:cond evt="onClick">
                          <p:tgtEl>
                            <p:spTgt spid="614"/>
                          </p:tgtEl>
                        </p:cond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1" dur="20000" fill="hold"/>
                                        <p:tgtEl>
                                          <p:spTgt spid="6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19" descr="42158"/>
          <p:cNvPicPr/>
          <p:nvPr/>
        </p:nvPicPr>
        <p:blipFill>
          <a:blip r:embed="rId1"/>
          <a:stretch/>
        </p:blipFill>
        <p:spPr>
          <a:xfrm>
            <a:off x="2990880" y="299880"/>
            <a:ext cx="3071880" cy="4388040"/>
          </a:xfrm>
          <a:prstGeom prst="rect">
            <a:avLst/>
          </a:prstGeom>
          <a:ln w="0">
            <a:noFill/>
          </a:ln>
        </p:spPr>
      </p:pic>
      <p:sp>
        <p:nvSpPr>
          <p:cNvPr id="616" name="Text Box 9"/>
          <p:cNvSpPr/>
          <p:nvPr/>
        </p:nvSpPr>
        <p:spPr>
          <a:xfrm>
            <a:off x="2171520" y="244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10"/>
          <p:cNvSpPr/>
          <p:nvPr/>
        </p:nvSpPr>
        <p:spPr>
          <a:xfrm>
            <a:off x="80640" y="2854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11"/>
          <p:cNvSpPr/>
          <p:nvPr/>
        </p:nvSpPr>
        <p:spPr>
          <a:xfrm>
            <a:off x="8602560" y="28926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2"/>
          <p:cNvSpPr/>
          <p:nvPr/>
        </p:nvSpPr>
        <p:spPr>
          <a:xfrm>
            <a:off x="1207800" y="1166760"/>
            <a:ext cx="160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рб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13"/>
          <p:cNvSpPr/>
          <p:nvPr/>
        </p:nvSpPr>
        <p:spPr>
          <a:xfrm>
            <a:off x="695160" y="254808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ль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4"/>
          <p:cNvSpPr/>
          <p:nvPr/>
        </p:nvSpPr>
        <p:spPr>
          <a:xfrm>
            <a:off x="6636240" y="2781360"/>
            <a:ext cx="15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ос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17" descr="133"/>
          <p:cNvPicPr/>
          <p:nvPr/>
        </p:nvPicPr>
        <p:blipFill>
          <a:blip r:embed="rId2"/>
          <a:stretch/>
        </p:blipFill>
        <p:spPr>
          <a:xfrm>
            <a:off x="407880" y="3368520"/>
            <a:ext cx="3105360" cy="348948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18" descr="10459_html_85b62d4"/>
          <p:cNvPicPr/>
          <p:nvPr/>
        </p:nvPicPr>
        <p:blipFill>
          <a:blip r:embed="rId3"/>
          <a:stretch/>
        </p:blipFill>
        <p:spPr>
          <a:xfrm>
            <a:off x="5877000" y="3395520"/>
            <a:ext cx="2976480" cy="34624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  <p:timing>
    <p:tnLst>
      <p:par>
        <p:cTn id="212" dur="indefinite" restart="never" nodeType="tmRoot">
          <p:childTnLst>
            <p:seq>
              <p:cTn id="213" restart="whenNotActive" nodeType="interactiveSeq" fill="hold">
                <p:stCondLst>
                  <p:cond evt="onClick">
                    <p:tgtEl>
                      <p:spTgt spid="616"/>
                    </p:tgtEl>
                  </p:cond>
                </p:stCondLst>
                <p:childTnLst>
                  <p:par>
                    <p:cTn id="214" nodeType="clickEffect" fill="hold">
                      <p:stCondLst>
                        <p:cond evt="onClick">
                          <p:tgtEl>
                            <p:spTgt spid="616"/>
                          </p:tgtEl>
                        </p:cond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617"/>
                    </p:tgtEl>
                  </p:cond>
                </p:stCondLst>
                <p:childTnLst>
                  <p:par>
                    <p:cTn id="223" nodeType="clickEffect" fill="hold">
                      <p:stCondLst>
                        <p:cond evt="onClick">
                          <p:tgtEl>
                            <p:spTgt spid="617"/>
                          </p:tgtEl>
                        </p:cond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618"/>
                    </p:tgtEl>
                  </p:cond>
                </p:stCondLst>
                <p:childTnLst>
                  <p:par>
                    <p:cTn id="232" nodeType="clickEffect" fill="hold">
                      <p:stCondLst>
                        <p:cond evt="onClick">
                          <p:tgtEl>
                            <p:spTgt spid="618"/>
                          </p:tgtEl>
                        </p:cond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10"/>
          <p:cNvSpPr/>
          <p:nvPr/>
        </p:nvSpPr>
        <p:spPr>
          <a:xfrm>
            <a:off x="1177920" y="573120"/>
            <a:ext cx="7488360" cy="600228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4"/>
          <p:cNvSpPr/>
          <p:nvPr/>
        </p:nvSpPr>
        <p:spPr>
          <a:xfrm>
            <a:off x="2049120" y="784080"/>
            <a:ext cx="533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1459c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то автор слов гим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ссийской Федерации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7">
            <a:hlinkClick r:id="rId1"/>
          </p:cNvPr>
          <p:cNvSpPr/>
          <p:nvPr/>
        </p:nvSpPr>
        <p:spPr>
          <a:xfrm>
            <a:off x="3368520" y="4761000"/>
            <a:ext cx="2928960" cy="1042920"/>
          </a:xfrm>
          <a:custGeom>
            <a:avLst/>
            <a:gdLst>
              <a:gd name="textAreaLeft" fmla="*/ 67320 w 2928960"/>
              <a:gd name="textAreaRight" fmla="*/ 2861640 w 292896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60648" h="21600">
                <a:moveTo>
                  <a:pt x="0" y="0"/>
                </a:moveTo>
                <a:lnTo>
                  <a:pt x="60648" y="0"/>
                </a:lnTo>
                <a:lnTo>
                  <a:pt x="60648" y="21600"/>
                </a:lnTo>
                <a:lnTo>
                  <a:pt x="0" y="21600"/>
                </a:lnTo>
                <a:close/>
              </a:path>
              <a:path fill="lightenLess" w="60648" h="21600">
                <a:moveTo>
                  <a:pt x="0" y="0"/>
                </a:moveTo>
                <a:lnTo>
                  <a:pt x="60648" y="0"/>
                </a:lnTo>
                <a:lnTo>
                  <a:pt x="59249" y="1400"/>
                </a:lnTo>
                <a:lnTo>
                  <a:pt x="1400" y="1400"/>
                </a:lnTo>
                <a:close/>
              </a:path>
              <a:path fill="darken" w="60648" h="21600">
                <a:moveTo>
                  <a:pt x="60648" y="0"/>
                </a:moveTo>
                <a:lnTo>
                  <a:pt x="60648" y="21600"/>
                </a:lnTo>
                <a:lnTo>
                  <a:pt x="59249" y="20200"/>
                </a:lnTo>
                <a:lnTo>
                  <a:pt x="59249" y="1400"/>
                </a:lnTo>
                <a:close/>
              </a:path>
              <a:path fill="darkenLess" w="60648" h="21600">
                <a:moveTo>
                  <a:pt x="60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249" y="20200"/>
                </a:lnTo>
                <a:close/>
              </a:path>
              <a:path fill="lighten" w="60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ргей</a:t>
            </a:r>
            <a:r>
              <a:rPr b="0" lang="ru-RU" sz="2000" spc="-1" strike="noStrike">
                <a:solidFill>
                  <a:srgbClr val="31459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ихал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8">
            <a:hlinkClick r:id="rId2"/>
          </p:cNvPr>
          <p:cNvSpPr/>
          <p:nvPr/>
        </p:nvSpPr>
        <p:spPr>
          <a:xfrm>
            <a:off x="3303720" y="3367080"/>
            <a:ext cx="2928960" cy="1042920"/>
          </a:xfrm>
          <a:custGeom>
            <a:avLst/>
            <a:gdLst>
              <a:gd name="textAreaLeft" fmla="*/ 67320 w 2928960"/>
              <a:gd name="textAreaRight" fmla="*/ 2861640 w 292896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60648" h="21600">
                <a:moveTo>
                  <a:pt x="0" y="0"/>
                </a:moveTo>
                <a:lnTo>
                  <a:pt x="60648" y="0"/>
                </a:lnTo>
                <a:lnTo>
                  <a:pt x="60648" y="21600"/>
                </a:lnTo>
                <a:lnTo>
                  <a:pt x="0" y="21600"/>
                </a:lnTo>
                <a:close/>
              </a:path>
              <a:path fill="lightenLess" w="60648" h="21600">
                <a:moveTo>
                  <a:pt x="0" y="0"/>
                </a:moveTo>
                <a:lnTo>
                  <a:pt x="60648" y="0"/>
                </a:lnTo>
                <a:lnTo>
                  <a:pt x="59249" y="1400"/>
                </a:lnTo>
                <a:lnTo>
                  <a:pt x="1400" y="1400"/>
                </a:lnTo>
                <a:close/>
              </a:path>
              <a:path fill="darken" w="60648" h="21600">
                <a:moveTo>
                  <a:pt x="60648" y="0"/>
                </a:moveTo>
                <a:lnTo>
                  <a:pt x="60648" y="21600"/>
                </a:lnTo>
                <a:lnTo>
                  <a:pt x="59249" y="20200"/>
                </a:lnTo>
                <a:lnTo>
                  <a:pt x="59249" y="1400"/>
                </a:lnTo>
                <a:close/>
              </a:path>
              <a:path fill="darkenLess" w="60648" h="21600">
                <a:moveTo>
                  <a:pt x="60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249" y="20200"/>
                </a:lnTo>
                <a:close/>
              </a:path>
              <a:path fill="lighten" w="60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4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вгений  Евтушен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AutoShape 9">
            <a:hlinkClick r:id="rId3"/>
          </p:cNvPr>
          <p:cNvSpPr/>
          <p:nvPr/>
        </p:nvSpPr>
        <p:spPr>
          <a:xfrm>
            <a:off x="3300480" y="2030400"/>
            <a:ext cx="2928960" cy="1042920"/>
          </a:xfrm>
          <a:custGeom>
            <a:avLst/>
            <a:gdLst>
              <a:gd name="textAreaLeft" fmla="*/ 67320 w 2928960"/>
              <a:gd name="textAreaRight" fmla="*/ 2861640 w 292896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60648" h="21600">
                <a:moveTo>
                  <a:pt x="0" y="0"/>
                </a:moveTo>
                <a:lnTo>
                  <a:pt x="60648" y="0"/>
                </a:lnTo>
                <a:lnTo>
                  <a:pt x="60648" y="21600"/>
                </a:lnTo>
                <a:lnTo>
                  <a:pt x="0" y="21600"/>
                </a:lnTo>
                <a:close/>
              </a:path>
              <a:path fill="lightenLess" w="60648" h="21600">
                <a:moveTo>
                  <a:pt x="0" y="0"/>
                </a:moveTo>
                <a:lnTo>
                  <a:pt x="60648" y="0"/>
                </a:lnTo>
                <a:lnTo>
                  <a:pt x="59249" y="1400"/>
                </a:lnTo>
                <a:lnTo>
                  <a:pt x="1400" y="1400"/>
                </a:lnTo>
                <a:close/>
              </a:path>
              <a:path fill="darken" w="60648" h="21600">
                <a:moveTo>
                  <a:pt x="60648" y="0"/>
                </a:moveTo>
                <a:lnTo>
                  <a:pt x="60648" y="21600"/>
                </a:lnTo>
                <a:lnTo>
                  <a:pt x="59249" y="20200"/>
                </a:lnTo>
                <a:lnTo>
                  <a:pt x="59249" y="1400"/>
                </a:lnTo>
                <a:close/>
              </a:path>
              <a:path fill="darkenLess" w="60648" h="21600">
                <a:moveTo>
                  <a:pt x="60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249" y="20200"/>
                </a:lnTo>
                <a:close/>
              </a:path>
              <a:path fill="lighten" w="60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дуард Багриц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  <p:timing>
    <p:tnLst>
      <p:par>
        <p:cTn id="240" dur="indefinite" restart="never" nodeType="tmRoot">
          <p:childTnLst>
            <p:seq>
              <p:cTn id="241" restart="whenNotActive" nodeType="interactiveSeq" fill="hold">
                <p:stCondLst>
                  <p:cond evt="onClick">
                    <p:tgtEl>
                      <p:spTgt spid="626"/>
                    </p:tgtEl>
                  </p:cond>
                </p:stCondLst>
                <p:childTnLst>
                  <p:par>
                    <p:cTn id="242" nodeType="clickEffect" fill="hold">
                      <p:stCondLst>
                        <p:cond evt="onClick">
                          <p:tgtEl>
                            <p:spTgt spid="626"/>
                          </p:tgtEl>
                        </p:cond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5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6"/>
          <p:cNvSpPr/>
          <p:nvPr/>
        </p:nvSpPr>
        <p:spPr>
          <a:xfrm>
            <a:off x="974880" y="297000"/>
            <a:ext cx="7488000" cy="628488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4"/>
          <p:cNvSpPr/>
          <p:nvPr/>
        </p:nvSpPr>
        <p:spPr>
          <a:xfrm>
            <a:off x="689040" y="1616040"/>
            <a:ext cx="7443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1459c"/>
                </a:solidFill>
                <a:latin typeface="Arial"/>
              </a:rPr>
              <a:t>           </a:t>
            </a:r>
            <a:r>
              <a:rPr b="1" lang="ru-RU" sz="4400" spc="-1" strike="noStrike">
                <a:solidFill>
                  <a:srgbClr val="31459c"/>
                </a:solidFill>
                <a:latin typeface="Arial"/>
              </a:rPr>
              <a:t>Сергей Михал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1459c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             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автор слов гимн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           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Российской Федер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AutoShape 5"/>
          <p:cNvSpPr/>
          <p:nvPr/>
        </p:nvSpPr>
        <p:spPr>
          <a:xfrm>
            <a:off x="8096400" y="5905440"/>
            <a:ext cx="747720" cy="690480"/>
          </a:xfrm>
          <a:custGeom>
            <a:avLst/>
            <a:gdLst>
              <a:gd name="textAreaLeft" fmla="*/ 44640 w 747720"/>
              <a:gd name="textAreaRight" fmla="*/ 703080 w 747720"/>
              <a:gd name="textAreaTop" fmla="*/ 44640 h 690480"/>
              <a:gd name="textAreaBottom" fmla="*/ 645840 h 690480"/>
            </a:gdLst>
            <a:ahLst/>
            <a:rect l="textAreaLeft" t="textAreaTop" r="textAreaRight" b="textAreaBottom"/>
            <a:pathLst>
              <a:path w="23390" h="21600">
                <a:moveTo>
                  <a:pt x="0" y="0"/>
                </a:moveTo>
                <a:lnTo>
                  <a:pt x="23390" y="0"/>
                </a:lnTo>
                <a:lnTo>
                  <a:pt x="23390" y="21600"/>
                </a:lnTo>
                <a:lnTo>
                  <a:pt x="0" y="21600"/>
                </a:lnTo>
                <a:close/>
              </a:path>
              <a:path fill="lightenLess" w="23390" h="21600">
                <a:moveTo>
                  <a:pt x="0" y="0"/>
                </a:moveTo>
                <a:lnTo>
                  <a:pt x="23390" y="0"/>
                </a:lnTo>
                <a:lnTo>
                  <a:pt x="21990" y="1400"/>
                </a:lnTo>
                <a:lnTo>
                  <a:pt x="1400" y="1400"/>
                </a:lnTo>
                <a:close/>
              </a:path>
              <a:path fill="darken" w="23390" h="21600">
                <a:moveTo>
                  <a:pt x="23390" y="0"/>
                </a:moveTo>
                <a:lnTo>
                  <a:pt x="23390" y="21600"/>
                </a:lnTo>
                <a:lnTo>
                  <a:pt x="21990" y="20200"/>
                </a:lnTo>
                <a:lnTo>
                  <a:pt x="21990" y="1400"/>
                </a:lnTo>
                <a:close/>
              </a:path>
              <a:path fill="darkenLess" w="23390" h="21600">
                <a:moveTo>
                  <a:pt x="23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90" y="20200"/>
                </a:lnTo>
                <a:close/>
              </a:path>
              <a:path fill="lighten" w="23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90" h="21600">
                <a:moveTo>
                  <a:pt x="4688" y="7493"/>
                </a:moveTo>
                <a:lnTo>
                  <a:pt x="8196" y="7493"/>
                </a:lnTo>
                <a:lnTo>
                  <a:pt x="8196" y="12828"/>
                </a:lnTo>
                <a:cubicBezTo>
                  <a:pt x="8196" y="13751"/>
                  <a:pt x="8997" y="14482"/>
                  <a:pt x="10032" y="14482"/>
                </a:cubicBezTo>
                <a:lnTo>
                  <a:pt x="11695" y="14482"/>
                </a:lnTo>
                <a:cubicBezTo>
                  <a:pt x="12731" y="14482"/>
                  <a:pt x="13531" y="13751"/>
                  <a:pt x="13531" y="12828"/>
                </a:cubicBezTo>
                <a:lnTo>
                  <a:pt x="13531" y="7493"/>
                </a:lnTo>
                <a:lnTo>
                  <a:pt x="11695" y="7493"/>
                </a:lnTo>
                <a:lnTo>
                  <a:pt x="15202" y="3985"/>
                </a:lnTo>
                <a:lnTo>
                  <a:pt x="18875" y="7493"/>
                </a:lnTo>
                <a:lnTo>
                  <a:pt x="17039" y="7493"/>
                </a:lnTo>
                <a:lnTo>
                  <a:pt x="17039" y="12828"/>
                </a:lnTo>
                <a:cubicBezTo>
                  <a:pt x="17039" y="15596"/>
                  <a:pt x="14463" y="18155"/>
                  <a:pt x="11695" y="18155"/>
                </a:cubicBezTo>
                <a:lnTo>
                  <a:pt x="10032" y="18155"/>
                </a:lnTo>
                <a:cubicBezTo>
                  <a:pt x="7265" y="18155"/>
                  <a:pt x="4688" y="15596"/>
                  <a:pt x="4688" y="12828"/>
                </a:cubicBezTo>
                <a:close/>
              </a:path>
            </a:pathLst>
          </a:custGeom>
          <a:solidFill>
            <a:srgbClr val="ef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8"/>
          <p:cNvSpPr/>
          <p:nvPr/>
        </p:nvSpPr>
        <p:spPr>
          <a:xfrm>
            <a:off x="974880" y="297000"/>
            <a:ext cx="7488000" cy="628488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4"/>
          <p:cNvSpPr/>
          <p:nvPr/>
        </p:nvSpPr>
        <p:spPr>
          <a:xfrm>
            <a:off x="279360" y="865080"/>
            <a:ext cx="8559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1459c"/>
                </a:solidFill>
                <a:latin typeface="Arial"/>
              </a:rPr>
              <a:t>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гда в России отмеча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ень государственного фла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AutoShape 5">
            <a:hlinkClick r:id="rId1"/>
          </p:cNvPr>
          <p:cNvSpPr/>
          <p:nvPr/>
        </p:nvSpPr>
        <p:spPr>
          <a:xfrm>
            <a:off x="3514680" y="3392640"/>
            <a:ext cx="2481480" cy="1042920"/>
          </a:xfrm>
          <a:custGeom>
            <a:avLst/>
            <a:gdLst>
              <a:gd name="textAreaLeft" fmla="*/ 67320 w 2481480"/>
              <a:gd name="textAreaRight" fmla="*/ 2414160 w 24814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51384" h="21600">
                <a:moveTo>
                  <a:pt x="0" y="0"/>
                </a:moveTo>
                <a:lnTo>
                  <a:pt x="51384" y="0"/>
                </a:lnTo>
                <a:lnTo>
                  <a:pt x="51384" y="21600"/>
                </a:lnTo>
                <a:lnTo>
                  <a:pt x="0" y="21600"/>
                </a:lnTo>
                <a:close/>
              </a:path>
              <a:path fill="lightenLess" w="51384" h="21600">
                <a:moveTo>
                  <a:pt x="0" y="0"/>
                </a:moveTo>
                <a:lnTo>
                  <a:pt x="51384" y="0"/>
                </a:lnTo>
                <a:lnTo>
                  <a:pt x="49984" y="1400"/>
                </a:lnTo>
                <a:lnTo>
                  <a:pt x="1400" y="1400"/>
                </a:lnTo>
                <a:close/>
              </a:path>
              <a:path fill="darken" w="51384" h="21600">
                <a:moveTo>
                  <a:pt x="51384" y="0"/>
                </a:moveTo>
                <a:lnTo>
                  <a:pt x="51384" y="21600"/>
                </a:lnTo>
                <a:lnTo>
                  <a:pt x="49984" y="20200"/>
                </a:lnTo>
                <a:lnTo>
                  <a:pt x="49984" y="1400"/>
                </a:lnTo>
                <a:close/>
              </a:path>
              <a:path fill="darkenLess" w="51384" h="21600">
                <a:moveTo>
                  <a:pt x="51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984" y="20200"/>
                </a:lnTo>
                <a:close/>
              </a:path>
              <a:path fill="lighten" w="51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2 авгу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AutoShape 6">
            <a:hlinkClick r:id="rId2"/>
          </p:cNvPr>
          <p:cNvSpPr/>
          <p:nvPr/>
        </p:nvSpPr>
        <p:spPr>
          <a:xfrm>
            <a:off x="1330200" y="4902120"/>
            <a:ext cx="2481480" cy="1042920"/>
          </a:xfrm>
          <a:custGeom>
            <a:avLst/>
            <a:gdLst>
              <a:gd name="textAreaLeft" fmla="*/ 67320 w 2481480"/>
              <a:gd name="textAreaRight" fmla="*/ 2414160 w 24814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51384" h="21600">
                <a:moveTo>
                  <a:pt x="0" y="0"/>
                </a:moveTo>
                <a:lnTo>
                  <a:pt x="51384" y="0"/>
                </a:lnTo>
                <a:lnTo>
                  <a:pt x="51384" y="21600"/>
                </a:lnTo>
                <a:lnTo>
                  <a:pt x="0" y="21600"/>
                </a:lnTo>
                <a:close/>
              </a:path>
              <a:path fill="lightenLess" w="51384" h="21600">
                <a:moveTo>
                  <a:pt x="0" y="0"/>
                </a:moveTo>
                <a:lnTo>
                  <a:pt x="51384" y="0"/>
                </a:lnTo>
                <a:lnTo>
                  <a:pt x="49984" y="1400"/>
                </a:lnTo>
                <a:lnTo>
                  <a:pt x="1400" y="1400"/>
                </a:lnTo>
                <a:close/>
              </a:path>
              <a:path fill="darken" w="51384" h="21600">
                <a:moveTo>
                  <a:pt x="51384" y="0"/>
                </a:moveTo>
                <a:lnTo>
                  <a:pt x="51384" y="21600"/>
                </a:lnTo>
                <a:lnTo>
                  <a:pt x="49984" y="20200"/>
                </a:lnTo>
                <a:lnTo>
                  <a:pt x="49984" y="1400"/>
                </a:lnTo>
                <a:close/>
              </a:path>
              <a:path fill="darkenLess" w="51384" h="21600">
                <a:moveTo>
                  <a:pt x="51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984" y="20200"/>
                </a:lnTo>
                <a:close/>
              </a:path>
              <a:path fill="lighten" w="51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4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2 ию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AutoShape 7">
            <a:hlinkClick r:id="rId3"/>
          </p:cNvPr>
          <p:cNvSpPr/>
          <p:nvPr/>
        </p:nvSpPr>
        <p:spPr>
          <a:xfrm>
            <a:off x="5637240" y="5056200"/>
            <a:ext cx="2481120" cy="1042920"/>
          </a:xfrm>
          <a:custGeom>
            <a:avLst/>
            <a:gdLst>
              <a:gd name="textAreaLeft" fmla="*/ 67320 w 2481120"/>
              <a:gd name="textAreaRight" fmla="*/ 2413800 w 24811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51376" h="21600">
                <a:moveTo>
                  <a:pt x="0" y="0"/>
                </a:moveTo>
                <a:lnTo>
                  <a:pt x="51376" y="0"/>
                </a:lnTo>
                <a:lnTo>
                  <a:pt x="51376" y="21600"/>
                </a:lnTo>
                <a:lnTo>
                  <a:pt x="0" y="21600"/>
                </a:lnTo>
                <a:close/>
              </a:path>
              <a:path fill="lightenLess" w="51376" h="21600">
                <a:moveTo>
                  <a:pt x="0" y="0"/>
                </a:moveTo>
                <a:lnTo>
                  <a:pt x="51376" y="0"/>
                </a:lnTo>
                <a:lnTo>
                  <a:pt x="49976" y="1400"/>
                </a:lnTo>
                <a:lnTo>
                  <a:pt x="1400" y="1400"/>
                </a:lnTo>
                <a:close/>
              </a:path>
              <a:path fill="darken" w="51376" h="21600">
                <a:moveTo>
                  <a:pt x="51376" y="0"/>
                </a:moveTo>
                <a:lnTo>
                  <a:pt x="51376" y="21600"/>
                </a:lnTo>
                <a:lnTo>
                  <a:pt x="49976" y="20200"/>
                </a:lnTo>
                <a:lnTo>
                  <a:pt x="49976" y="1400"/>
                </a:lnTo>
                <a:close/>
              </a:path>
              <a:path fill="darkenLess" w="51376" h="21600">
                <a:moveTo>
                  <a:pt x="51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976" y="20200"/>
                </a:lnTo>
                <a:close/>
              </a:path>
              <a:path fill="lighten" w="51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 м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10"/>
          <p:cNvSpPr/>
          <p:nvPr/>
        </p:nvSpPr>
        <p:spPr>
          <a:xfrm>
            <a:off x="641520" y="341280"/>
            <a:ext cx="7488000" cy="628488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9"/>
          <p:cNvSpPr/>
          <p:nvPr/>
        </p:nvSpPr>
        <p:spPr>
          <a:xfrm>
            <a:off x="641520" y="341280"/>
            <a:ext cx="7488000" cy="628488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5"/>
          <p:cNvSpPr/>
          <p:nvPr/>
        </p:nvSpPr>
        <p:spPr>
          <a:xfrm>
            <a:off x="1335240" y="1582560"/>
            <a:ext cx="631332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1459c"/>
                </a:solidFill>
                <a:latin typeface="Arial"/>
              </a:rPr>
              <a:t>                 </a:t>
            </a:r>
            <a:r>
              <a:rPr b="1" lang="ru-RU" sz="2800" spc="-1" strike="noStrike">
                <a:solidFill>
                  <a:srgbClr val="31459c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ень        государственного флага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оссии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мечается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1459c"/>
                </a:solidFill>
                <a:latin typeface="Arial"/>
              </a:rPr>
              <a:t>            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22 авгус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AutoShape 7"/>
          <p:cNvSpPr/>
          <p:nvPr/>
        </p:nvSpPr>
        <p:spPr>
          <a:xfrm>
            <a:off x="8032680" y="5838840"/>
            <a:ext cx="738360" cy="738000"/>
          </a:xfrm>
          <a:custGeom>
            <a:avLst/>
            <a:gdLst>
              <a:gd name="textAreaLeft" fmla="*/ 47520 w 738360"/>
              <a:gd name="textAreaRight" fmla="*/ 690840 w 738360"/>
              <a:gd name="textAreaTop" fmla="*/ 47520 h 738000"/>
              <a:gd name="textAreaBottom" fmla="*/ 690480 h 73800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1" h="21600">
                <a:moveTo>
                  <a:pt x="3799" y="7493"/>
                </a:moveTo>
                <a:lnTo>
                  <a:pt x="7306" y="7493"/>
                </a:lnTo>
                <a:lnTo>
                  <a:pt x="7306" y="12828"/>
                </a:lnTo>
                <a:cubicBezTo>
                  <a:pt x="7306" y="13751"/>
                  <a:pt x="8107" y="14482"/>
                  <a:pt x="9143" y="14482"/>
                </a:cubicBezTo>
                <a:lnTo>
                  <a:pt x="10805" y="14482"/>
                </a:lnTo>
                <a:cubicBezTo>
                  <a:pt x="11841" y="14482"/>
                  <a:pt x="12642" y="13751"/>
                  <a:pt x="12642" y="12828"/>
                </a:cubicBezTo>
                <a:lnTo>
                  <a:pt x="12642" y="7493"/>
                </a:lnTo>
                <a:lnTo>
                  <a:pt x="10805" y="7493"/>
                </a:lnTo>
                <a:lnTo>
                  <a:pt x="14313" y="3985"/>
                </a:lnTo>
                <a:lnTo>
                  <a:pt x="17986" y="7493"/>
                </a:lnTo>
                <a:lnTo>
                  <a:pt x="16149" y="7493"/>
                </a:lnTo>
                <a:lnTo>
                  <a:pt x="16149" y="12828"/>
                </a:lnTo>
                <a:cubicBezTo>
                  <a:pt x="16149" y="15596"/>
                  <a:pt x="13573" y="18155"/>
                  <a:pt x="10805" y="18155"/>
                </a:cubicBezTo>
                <a:lnTo>
                  <a:pt x="9143" y="18155"/>
                </a:lnTo>
                <a:cubicBezTo>
                  <a:pt x="6375" y="18155"/>
                  <a:pt x="3799" y="15596"/>
                  <a:pt x="3799" y="12828"/>
                </a:cubicBezTo>
                <a:close/>
              </a:path>
            </a:pathLst>
          </a:custGeom>
          <a:solidFill>
            <a:srgbClr val="ef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50004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6f3fa"/>
                </a:solidFill>
                <a:latin typeface="Times New Roman"/>
                <a:ea typeface="Times New Roman"/>
              </a:rPr>
              <a:t>Поздравляем знатоков основного закона государства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13"/>
          <p:cNvSpPr/>
          <p:nvPr/>
        </p:nvSpPr>
        <p:spPr>
          <a:xfrm>
            <a:off x="814320" y="379440"/>
            <a:ext cx="7488360" cy="628488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4"/>
          <p:cNvSpPr/>
          <p:nvPr/>
        </p:nvSpPr>
        <p:spPr>
          <a:xfrm>
            <a:off x="5324760" y="230040"/>
            <a:ext cx="305028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0" spc="-1" strike="noStrike">
                <a:solidFill>
                  <a:srgbClr val="cc0000"/>
                </a:solidFill>
                <a:latin typeface="Arial"/>
              </a:rPr>
              <a:t>?</a:t>
            </a:r>
            <a:endParaRPr b="0" lang="en-US" sz="3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5"/>
          <p:cNvSpPr/>
          <p:nvPr/>
        </p:nvSpPr>
        <p:spPr>
          <a:xfrm>
            <a:off x="1028880" y="652320"/>
            <a:ext cx="753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12f69"/>
                </a:solidFill>
                <a:latin typeface="Arial"/>
              </a:rPr>
              <a:t>Назовите основной закон государст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10">
            <a:hlinkClick r:id="rId1"/>
          </p:cNvPr>
          <p:cNvSpPr/>
          <p:nvPr/>
        </p:nvSpPr>
        <p:spPr>
          <a:xfrm>
            <a:off x="1271520" y="3051000"/>
            <a:ext cx="1909800" cy="852840"/>
          </a:xfrm>
          <a:custGeom>
            <a:avLst/>
            <a:gdLst>
              <a:gd name="textAreaLeft" fmla="*/ 55080 w 1909800"/>
              <a:gd name="textAreaRight" fmla="*/ 1854720 w 1909800"/>
              <a:gd name="textAreaTop" fmla="*/ 55080 h 852840"/>
              <a:gd name="textAreaBottom" fmla="*/ 797760 h 85284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9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9" y="20200"/>
                </a:lnTo>
                <a:lnTo>
                  <a:pt x="46959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9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f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рруп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11">
            <a:hlinkClick r:id="rId2"/>
          </p:cNvPr>
          <p:cNvSpPr/>
          <p:nvPr/>
        </p:nvSpPr>
        <p:spPr>
          <a:xfrm>
            <a:off x="3073320" y="4221000"/>
            <a:ext cx="2471760" cy="871560"/>
          </a:xfrm>
          <a:custGeom>
            <a:avLst/>
            <a:gdLst>
              <a:gd name="textAreaLeft" fmla="*/ 56160 w 2471760"/>
              <a:gd name="textAreaRight" fmla="*/ 2415600 w 2471760"/>
              <a:gd name="textAreaTop" fmla="*/ 56160 h 871560"/>
              <a:gd name="textAreaBottom" fmla="*/ 815400 h 871560"/>
            </a:gdLst>
            <a:ahLst/>
            <a:rect l="textAreaLeft" t="textAreaTop" r="textAreaRight" b="textAreaBottom"/>
            <a:pathLst>
              <a:path w="61242" h="21600">
                <a:moveTo>
                  <a:pt x="0" y="0"/>
                </a:moveTo>
                <a:lnTo>
                  <a:pt x="61242" y="0"/>
                </a:lnTo>
                <a:lnTo>
                  <a:pt x="61242" y="21600"/>
                </a:lnTo>
                <a:lnTo>
                  <a:pt x="0" y="21600"/>
                </a:lnTo>
                <a:close/>
              </a:path>
              <a:path fill="lightenLess" w="61242" h="21600">
                <a:moveTo>
                  <a:pt x="0" y="0"/>
                </a:moveTo>
                <a:lnTo>
                  <a:pt x="61242" y="0"/>
                </a:lnTo>
                <a:lnTo>
                  <a:pt x="59842" y="1400"/>
                </a:lnTo>
                <a:lnTo>
                  <a:pt x="1400" y="1400"/>
                </a:lnTo>
                <a:close/>
              </a:path>
              <a:path fill="darken" w="61242" h="21600">
                <a:moveTo>
                  <a:pt x="61242" y="0"/>
                </a:moveTo>
                <a:lnTo>
                  <a:pt x="61242" y="21600"/>
                </a:lnTo>
                <a:lnTo>
                  <a:pt x="59842" y="20200"/>
                </a:lnTo>
                <a:lnTo>
                  <a:pt x="59842" y="1400"/>
                </a:lnTo>
                <a:close/>
              </a:path>
              <a:path fill="darkenLess" w="61242" h="21600">
                <a:moveTo>
                  <a:pt x="612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842" y="20200"/>
                </a:lnTo>
                <a:close/>
              </a:path>
              <a:path fill="lighten" w="612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4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федер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12">
            <a:hlinkClick r:id="rId3" action="ppaction://hlinksldjump"/>
          </p:cNvPr>
          <p:cNvSpPr/>
          <p:nvPr/>
        </p:nvSpPr>
        <p:spPr>
          <a:xfrm>
            <a:off x="5232240" y="5375160"/>
            <a:ext cx="2167200" cy="881280"/>
          </a:xfrm>
          <a:custGeom>
            <a:avLst/>
            <a:gdLst>
              <a:gd name="textAreaLeft" fmla="*/ 56880 w 2167200"/>
              <a:gd name="textAreaRight" fmla="*/ 2110320 w 2167200"/>
              <a:gd name="textAreaTop" fmla="*/ 56880 h 881280"/>
              <a:gd name="textAreaBottom" fmla="*/ 824400 h 881280"/>
            </a:gdLst>
            <a:ahLst/>
            <a:rect l="textAreaLeft" t="textAreaTop" r="textAreaRight" b="textAreaBottom"/>
            <a:pathLst>
              <a:path w="53105" h="21600">
                <a:moveTo>
                  <a:pt x="0" y="0"/>
                </a:moveTo>
                <a:lnTo>
                  <a:pt x="53105" y="0"/>
                </a:lnTo>
                <a:lnTo>
                  <a:pt x="53105" y="21600"/>
                </a:lnTo>
                <a:lnTo>
                  <a:pt x="0" y="21600"/>
                </a:lnTo>
                <a:close/>
              </a:path>
              <a:path fill="lightenLess" w="53105" h="21600">
                <a:moveTo>
                  <a:pt x="0" y="0"/>
                </a:moveTo>
                <a:lnTo>
                  <a:pt x="53105" y="0"/>
                </a:lnTo>
                <a:lnTo>
                  <a:pt x="51705" y="1400"/>
                </a:lnTo>
                <a:lnTo>
                  <a:pt x="1400" y="1400"/>
                </a:lnTo>
                <a:close/>
              </a:path>
              <a:path fill="darken" w="53105" h="21600">
                <a:moveTo>
                  <a:pt x="53105" y="0"/>
                </a:moveTo>
                <a:lnTo>
                  <a:pt x="53105" y="21600"/>
                </a:lnTo>
                <a:lnTo>
                  <a:pt x="51705" y="20200"/>
                </a:lnTo>
                <a:lnTo>
                  <a:pt x="51705" y="1400"/>
                </a:lnTo>
                <a:close/>
              </a:path>
              <a:path fill="darkenLess" w="53105" h="21600">
                <a:moveTo>
                  <a:pt x="531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705" y="20200"/>
                </a:lnTo>
                <a:close/>
              </a:path>
              <a:path fill="lighten" w="531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ститу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  <p:timing>
    <p:tnLst>
      <p:par>
        <p:cTn id="98" dur="indefinite" restart="never" nodeType="tmRoot">
          <p:childTnLst>
            <p:seq>
              <p:cTn id="99" restart="whenNotActive" nodeType="interactiveSeq" fill="hold">
                <p:stCondLst>
                  <p:cond evt="onClick">
                    <p:tgtEl>
                      <p:spTgt spid="522"/>
                    </p:tgtEl>
                  </p:cond>
                </p:stCondLst>
                <p:childTnLst>
                  <p:par>
                    <p:cTn id="100" nodeType="clickEffect" fill="hold">
                      <p:stCondLst>
                        <p:cond evt="onClick">
                          <p:tgtEl>
                            <p:spTgt spid="522"/>
                          </p:tgtEl>
                        </p:cond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3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523"/>
                    </p:tgtEl>
                  </p:cond>
                </p:stCondLst>
                <p:childTnLst>
                  <p:par>
                    <p:cTn id="105" nodeType="clickEffect" fill="hold">
                      <p:stCondLst>
                        <p:cond evt="onClick">
                          <p:tgtEl>
                            <p:spTgt spid="523"/>
                          </p:tgtEl>
                        </p:cond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-157320" y="301680"/>
            <a:ext cx="9144000" cy="170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С праздником,</a:t>
            </a:r>
            <a:br>
              <a:rPr sz="5400"/>
            </a:b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 Днём Конституции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4"/>
          <p:cNvSpPr/>
          <p:nvPr/>
        </p:nvSpPr>
        <p:spPr>
          <a:xfrm>
            <a:off x="2975040" y="2409840"/>
            <a:ext cx="58640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6f3fa"/>
                </a:solidFill>
                <a:latin typeface="Times New Roman"/>
              </a:rPr>
              <a:t>Поздравляю вас с Дн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f3fa"/>
                </a:solidFill>
                <a:latin typeface="Times New Roman"/>
              </a:rPr>
              <a:t>                                     </a:t>
            </a:r>
            <a:r>
              <a:rPr b="1" lang="ru-RU" sz="2800" spc="-1" strike="noStrike">
                <a:solidFill>
                  <a:srgbClr val="f6f3fa"/>
                </a:solidFill>
                <a:latin typeface="Times New Roman"/>
              </a:rPr>
              <a:t>Конституци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6f3fa"/>
                </a:solidFill>
                <a:latin typeface="Times New Roman"/>
              </a:rPr>
              <a:t>И желаю, чтоб нашу стран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6f3fa"/>
                </a:solidFill>
                <a:latin typeface="Times New Roman"/>
              </a:rPr>
              <a:t>Обошли стороной революци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6f3fa"/>
                </a:solidFill>
                <a:latin typeface="Times New Roman"/>
              </a:rPr>
              <a:t>Чтоб она не познала войн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6f3fa"/>
                </a:solidFill>
                <a:latin typeface="Times New Roman"/>
              </a:rPr>
              <a:t>Пусть живет, процветает Велика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6f3fa"/>
                </a:solidFill>
                <a:latin typeface="Times New Roman"/>
              </a:rPr>
              <a:t>Наша Родина, гордость и чес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6f3fa"/>
                </a:solidFill>
                <a:latin typeface="Times New Roman"/>
              </a:rPr>
              <a:t>Неприятели пусть многоли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6f3fa"/>
                </a:solidFill>
                <a:latin typeface="Times New Roman"/>
              </a:rPr>
              <a:t>Позабудут коварство и ле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6"/>
          <p:cNvSpPr/>
          <p:nvPr/>
        </p:nvSpPr>
        <p:spPr>
          <a:xfrm>
            <a:off x="4321080" y="4497480"/>
            <a:ext cx="44848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Picture 2" descr=""/>
          <p:cNvPicPr/>
          <p:nvPr/>
        </p:nvPicPr>
        <p:blipFill>
          <a:blip r:embed="rId1"/>
          <a:srcRect l="0" t="0" r="4179" b="2942"/>
          <a:stretch/>
        </p:blipFill>
        <p:spPr>
          <a:xfrm>
            <a:off x="189000" y="2593800"/>
            <a:ext cx="2597040" cy="3589560"/>
          </a:xfrm>
          <a:prstGeom prst="rect">
            <a:avLst/>
          </a:prstGeom>
          <a:ln w="0">
            <a:noFill/>
          </a:ln>
        </p:spPr>
      </p:pic>
      <p:sp>
        <p:nvSpPr>
          <p:cNvPr id="647" name="Text Box 6"/>
          <p:cNvSpPr/>
          <p:nvPr/>
        </p:nvSpPr>
        <p:spPr>
          <a:xfrm>
            <a:off x="4473720" y="4649760"/>
            <a:ext cx="4484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AutoShape 2"/>
          <p:cNvSpPr/>
          <p:nvPr/>
        </p:nvSpPr>
        <p:spPr>
          <a:xfrm>
            <a:off x="1634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AutoShape 4"/>
          <p:cNvSpPr/>
          <p:nvPr/>
        </p:nvSpPr>
        <p:spPr>
          <a:xfrm>
            <a:off x="1634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800280" y="379440"/>
            <a:ext cx="7488000" cy="628488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5"/>
          <p:cNvSpPr/>
          <p:nvPr/>
        </p:nvSpPr>
        <p:spPr>
          <a:xfrm>
            <a:off x="1995480" y="566640"/>
            <a:ext cx="5295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Arial"/>
              </a:rPr>
              <a:t>Конституц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6"/>
          <p:cNvSpPr/>
          <p:nvPr/>
        </p:nvSpPr>
        <p:spPr>
          <a:xfrm>
            <a:off x="8153280" y="6039000"/>
            <a:ext cx="804960" cy="699840"/>
          </a:xfrm>
          <a:custGeom>
            <a:avLst/>
            <a:gdLst>
              <a:gd name="textAreaLeft" fmla="*/ 45360 w 804960"/>
              <a:gd name="textAreaRight" fmla="*/ 759600 w 804960"/>
              <a:gd name="textAreaTop" fmla="*/ 45360 h 699840"/>
              <a:gd name="textAreaBottom" fmla="*/ 654480 h 699840"/>
            </a:gdLst>
            <a:ahLst/>
            <a:rect l="textAreaLeft" t="textAreaTop" r="textAreaRight" b="textAreaBottom"/>
            <a:pathLst>
              <a:path w="24843" h="21600">
                <a:moveTo>
                  <a:pt x="0" y="0"/>
                </a:moveTo>
                <a:lnTo>
                  <a:pt x="24843" y="0"/>
                </a:lnTo>
                <a:lnTo>
                  <a:pt x="24843" y="21600"/>
                </a:lnTo>
                <a:lnTo>
                  <a:pt x="0" y="21600"/>
                </a:lnTo>
                <a:close/>
              </a:path>
              <a:path fill="lightenLess" w="24843" h="21600">
                <a:moveTo>
                  <a:pt x="0" y="0"/>
                </a:moveTo>
                <a:lnTo>
                  <a:pt x="24843" y="0"/>
                </a:lnTo>
                <a:lnTo>
                  <a:pt x="23443" y="1400"/>
                </a:lnTo>
                <a:lnTo>
                  <a:pt x="1400" y="1400"/>
                </a:lnTo>
                <a:close/>
              </a:path>
              <a:path fill="darken" w="24843" h="21600">
                <a:moveTo>
                  <a:pt x="24843" y="0"/>
                </a:moveTo>
                <a:lnTo>
                  <a:pt x="24843" y="21600"/>
                </a:lnTo>
                <a:lnTo>
                  <a:pt x="23443" y="20200"/>
                </a:lnTo>
                <a:lnTo>
                  <a:pt x="23443" y="1400"/>
                </a:lnTo>
                <a:close/>
              </a:path>
              <a:path fill="darkenLess" w="24843" h="21600">
                <a:moveTo>
                  <a:pt x="248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43" y="20200"/>
                </a:lnTo>
                <a:close/>
              </a:path>
              <a:path fill="lighten" w="248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43" h="21600">
                <a:moveTo>
                  <a:pt x="5415" y="7493"/>
                </a:moveTo>
                <a:lnTo>
                  <a:pt x="8922" y="7493"/>
                </a:lnTo>
                <a:lnTo>
                  <a:pt x="8922" y="12828"/>
                </a:lnTo>
                <a:cubicBezTo>
                  <a:pt x="8922" y="13751"/>
                  <a:pt x="9723" y="14482"/>
                  <a:pt x="10759" y="14482"/>
                </a:cubicBezTo>
                <a:lnTo>
                  <a:pt x="12421" y="14482"/>
                </a:lnTo>
                <a:cubicBezTo>
                  <a:pt x="13457" y="14482"/>
                  <a:pt x="14258" y="13751"/>
                  <a:pt x="14258" y="12828"/>
                </a:cubicBezTo>
                <a:lnTo>
                  <a:pt x="14258" y="7493"/>
                </a:lnTo>
                <a:lnTo>
                  <a:pt x="12421" y="7493"/>
                </a:lnTo>
                <a:lnTo>
                  <a:pt x="15929" y="3985"/>
                </a:lnTo>
                <a:lnTo>
                  <a:pt x="19602" y="7493"/>
                </a:lnTo>
                <a:lnTo>
                  <a:pt x="17765" y="7493"/>
                </a:lnTo>
                <a:lnTo>
                  <a:pt x="17765" y="12828"/>
                </a:lnTo>
                <a:cubicBezTo>
                  <a:pt x="17765" y="15596"/>
                  <a:pt x="15189" y="18155"/>
                  <a:pt x="12421" y="18155"/>
                </a:cubicBezTo>
                <a:lnTo>
                  <a:pt x="10759" y="18155"/>
                </a:lnTo>
                <a:cubicBezTo>
                  <a:pt x="7991" y="18155"/>
                  <a:pt x="5415" y="15596"/>
                  <a:pt x="5415" y="12828"/>
                </a:cubicBezTo>
                <a:close/>
              </a:path>
            </a:pathLst>
          </a:custGeom>
          <a:solidFill>
            <a:srgbClr val="ef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8" descr="0017-014-Konstitutsija-RF"/>
          <p:cNvPicPr/>
          <p:nvPr/>
        </p:nvPicPr>
        <p:blipFill>
          <a:blip r:embed="rId1"/>
          <a:stretch/>
        </p:blipFill>
        <p:spPr>
          <a:xfrm>
            <a:off x="3255840" y="2028960"/>
            <a:ext cx="2805120" cy="39099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8"/>
          <p:cNvSpPr/>
          <p:nvPr/>
        </p:nvSpPr>
        <p:spPr>
          <a:xfrm>
            <a:off x="871560" y="239760"/>
            <a:ext cx="7488360" cy="628488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4"/>
          <p:cNvSpPr/>
          <p:nvPr/>
        </p:nvSpPr>
        <p:spPr>
          <a:xfrm>
            <a:off x="1030320" y="625320"/>
            <a:ext cx="6988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2f69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212f69"/>
                </a:solidFill>
                <a:latin typeface="Arial"/>
              </a:rPr>
              <a:t>Сколько лет прошло с момента    принятия последн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12f69"/>
                </a:solidFill>
                <a:latin typeface="Arial"/>
              </a:rPr>
              <a:t>               </a:t>
            </a:r>
            <a:r>
              <a:rPr b="1" lang="ru-RU" sz="3200" spc="-1" strike="noStrike">
                <a:solidFill>
                  <a:srgbClr val="212f69"/>
                </a:solidFill>
                <a:latin typeface="Arial"/>
              </a:rPr>
              <a:t>Конститу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12f69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212f69"/>
                </a:solidFill>
                <a:latin typeface="Arial"/>
              </a:rPr>
              <a:t>нашего государства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utoShape 5">
            <a:hlinkClick r:id="rId1"/>
          </p:cNvPr>
          <p:cNvSpPr/>
          <p:nvPr/>
        </p:nvSpPr>
        <p:spPr>
          <a:xfrm>
            <a:off x="1457280" y="41529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f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6">
            <a:hlinkClick r:id="rId2"/>
          </p:cNvPr>
          <p:cNvSpPr/>
          <p:nvPr/>
        </p:nvSpPr>
        <p:spPr>
          <a:xfrm>
            <a:off x="3873600" y="4168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4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1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utoShape 7">
            <a:hlinkClick r:id="rId3"/>
          </p:cNvPr>
          <p:cNvSpPr/>
          <p:nvPr/>
        </p:nvSpPr>
        <p:spPr>
          <a:xfrm>
            <a:off x="6404040" y="4203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5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  <p:timing>
    <p:tnLst>
      <p:par>
        <p:cTn id="109" dur="indefinite" restart="never" nodeType="tmRoot">
          <p:childTnLst>
            <p:seq>
              <p:cTn id="110" restart="whenNotActive" nodeType="interactiveSeq" fill="hold">
                <p:stCondLst>
                  <p:cond evt="onClick">
                    <p:tgtEl>
                      <p:spTgt spid="532"/>
                    </p:tgtEl>
                  </p:cond>
                </p:stCondLst>
                <p:childTnLst>
                  <p:par>
                    <p:cTn id="111" nodeType="clickEffect" fill="hold">
                      <p:stCondLst>
                        <p:cond evt="onClick">
                          <p:tgtEl>
                            <p:spTgt spid="532"/>
                          </p:tgtEl>
                        </p:cond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4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533"/>
                    </p:tgtEl>
                  </p:cond>
                </p:stCondLst>
                <p:childTnLst>
                  <p:par>
                    <p:cTn id="116" nodeType="clickEffect" fill="hold">
                      <p:stCondLst>
                        <p:cond evt="onClick">
                          <p:tgtEl>
                            <p:spTgt spid="533"/>
                          </p:tgtEl>
                        </p:cond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9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1033560" y="297000"/>
            <a:ext cx="7488000" cy="628488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2980080" y="635040"/>
            <a:ext cx="392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212f69"/>
                </a:solidFill>
                <a:latin typeface="Arial"/>
              </a:rPr>
              <a:t>27 лет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6"/>
          <p:cNvSpPr/>
          <p:nvPr/>
        </p:nvSpPr>
        <p:spPr>
          <a:xfrm>
            <a:off x="7972560" y="5743440"/>
            <a:ext cx="785520" cy="776520"/>
          </a:xfrm>
          <a:custGeom>
            <a:avLst/>
            <a:gdLst>
              <a:gd name="textAreaLeft" fmla="*/ 50040 w 785520"/>
              <a:gd name="textAreaRight" fmla="*/ 735480 w 785520"/>
              <a:gd name="textAreaTop" fmla="*/ 50040 h 776520"/>
              <a:gd name="textAreaBottom" fmla="*/ 726480 h 776520"/>
            </a:gdLst>
            <a:ahLst/>
            <a:rect l="textAreaLeft" t="textAreaTop" r="textAreaRight" b="textAreaBottom"/>
            <a:pathLst>
              <a:path w="21850" h="21600">
                <a:moveTo>
                  <a:pt x="0" y="0"/>
                </a:moveTo>
                <a:lnTo>
                  <a:pt x="21850" y="0"/>
                </a:lnTo>
                <a:lnTo>
                  <a:pt x="21850" y="21600"/>
                </a:lnTo>
                <a:lnTo>
                  <a:pt x="0" y="21600"/>
                </a:lnTo>
                <a:close/>
              </a:path>
              <a:path fill="lightenLess" w="21850" h="21600">
                <a:moveTo>
                  <a:pt x="0" y="0"/>
                </a:moveTo>
                <a:lnTo>
                  <a:pt x="21850" y="0"/>
                </a:lnTo>
                <a:lnTo>
                  <a:pt x="20450" y="1400"/>
                </a:lnTo>
                <a:lnTo>
                  <a:pt x="1400" y="1400"/>
                </a:lnTo>
                <a:close/>
              </a:path>
              <a:path fill="darken" w="21850" h="21600">
                <a:moveTo>
                  <a:pt x="21850" y="0"/>
                </a:moveTo>
                <a:lnTo>
                  <a:pt x="21850" y="21600"/>
                </a:lnTo>
                <a:lnTo>
                  <a:pt x="20450" y="20200"/>
                </a:lnTo>
                <a:lnTo>
                  <a:pt x="20450" y="1400"/>
                </a:lnTo>
                <a:close/>
              </a:path>
              <a:path fill="darkenLess" w="21850" h="21600">
                <a:moveTo>
                  <a:pt x="218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450" y="20200"/>
                </a:lnTo>
                <a:close/>
              </a:path>
              <a:path fill="lighten" w="218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850" h="21600">
                <a:moveTo>
                  <a:pt x="3919" y="7493"/>
                </a:moveTo>
                <a:lnTo>
                  <a:pt x="7426" y="7493"/>
                </a:lnTo>
                <a:lnTo>
                  <a:pt x="7426" y="12828"/>
                </a:lnTo>
                <a:cubicBezTo>
                  <a:pt x="7426" y="13751"/>
                  <a:pt x="8227" y="14482"/>
                  <a:pt x="9263" y="14482"/>
                </a:cubicBezTo>
                <a:lnTo>
                  <a:pt x="10925" y="14482"/>
                </a:lnTo>
                <a:cubicBezTo>
                  <a:pt x="11961" y="14482"/>
                  <a:pt x="12762" y="13751"/>
                  <a:pt x="12762" y="12828"/>
                </a:cubicBezTo>
                <a:lnTo>
                  <a:pt x="12762" y="7493"/>
                </a:lnTo>
                <a:lnTo>
                  <a:pt x="10925" y="7493"/>
                </a:lnTo>
                <a:lnTo>
                  <a:pt x="14433" y="3985"/>
                </a:lnTo>
                <a:lnTo>
                  <a:pt x="18106" y="7493"/>
                </a:lnTo>
                <a:lnTo>
                  <a:pt x="16269" y="7493"/>
                </a:lnTo>
                <a:lnTo>
                  <a:pt x="16269" y="12828"/>
                </a:lnTo>
                <a:cubicBezTo>
                  <a:pt x="16269" y="15596"/>
                  <a:pt x="13693" y="18155"/>
                  <a:pt x="10925" y="18155"/>
                </a:cubicBezTo>
                <a:lnTo>
                  <a:pt x="9263" y="18155"/>
                </a:lnTo>
                <a:cubicBezTo>
                  <a:pt x="6495" y="18155"/>
                  <a:pt x="3919" y="15596"/>
                  <a:pt x="3919" y="12828"/>
                </a:cubicBezTo>
                <a:close/>
              </a:path>
            </a:pathLst>
          </a:custGeom>
          <a:solidFill>
            <a:srgbClr val="ef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8" descr="0017-014-Konstitutsija-RF"/>
          <p:cNvPicPr/>
          <p:nvPr/>
        </p:nvPicPr>
        <p:blipFill>
          <a:blip r:embed="rId1"/>
          <a:stretch/>
        </p:blipFill>
        <p:spPr>
          <a:xfrm>
            <a:off x="3532320" y="2390760"/>
            <a:ext cx="2805120" cy="39099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9"/>
          <p:cNvSpPr/>
          <p:nvPr/>
        </p:nvSpPr>
        <p:spPr>
          <a:xfrm>
            <a:off x="685800" y="355680"/>
            <a:ext cx="7488360" cy="628488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4"/>
          <p:cNvSpPr/>
          <p:nvPr/>
        </p:nvSpPr>
        <p:spPr>
          <a:xfrm>
            <a:off x="4267080" y="1127160"/>
            <a:ext cx="231480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0" spc="-1" strike="noStrike">
                <a:solidFill>
                  <a:srgbClr val="cc0000"/>
                </a:solidFill>
                <a:latin typeface="Arial"/>
              </a:rPr>
              <a:t>?</a:t>
            </a:r>
            <a:endParaRPr b="0" lang="en-US" sz="3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5"/>
          <p:cNvSpPr/>
          <p:nvPr/>
        </p:nvSpPr>
        <p:spPr>
          <a:xfrm>
            <a:off x="560880" y="838080"/>
            <a:ext cx="7409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12f69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212f69"/>
                </a:solidFill>
                <a:latin typeface="Arial"/>
              </a:rPr>
              <a:t>Сколько изданий Конститу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12f69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212f69"/>
                </a:solidFill>
                <a:latin typeface="Arial"/>
              </a:rPr>
              <a:t>насчитывает  наше государство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6">
            <a:hlinkClick r:id="rId1"/>
          </p:cNvPr>
          <p:cNvSpPr/>
          <p:nvPr/>
        </p:nvSpPr>
        <p:spPr>
          <a:xfrm>
            <a:off x="1746360" y="2765520"/>
            <a:ext cx="900000" cy="890640"/>
          </a:xfrm>
          <a:custGeom>
            <a:avLst/>
            <a:gdLst>
              <a:gd name="textAreaLeft" fmla="*/ 57600 w 900000"/>
              <a:gd name="textAreaRight" fmla="*/ 842400 w 900000"/>
              <a:gd name="textAreaTop" fmla="*/ 57600 h 890640"/>
              <a:gd name="textAreaBottom" fmla="*/ 833040 h 890640"/>
            </a:gdLst>
            <a:ahLst/>
            <a:rect l="textAreaLeft" t="textAreaTop" r="textAreaRight" b="textAreaBottom"/>
            <a:pathLst>
              <a:path w="21827" h="21600">
                <a:moveTo>
                  <a:pt x="0" y="0"/>
                </a:moveTo>
                <a:lnTo>
                  <a:pt x="21827" y="0"/>
                </a:lnTo>
                <a:lnTo>
                  <a:pt x="21827" y="21600"/>
                </a:lnTo>
                <a:lnTo>
                  <a:pt x="0" y="21600"/>
                </a:lnTo>
                <a:close/>
              </a:path>
              <a:path fill="lightenLess" w="21827" h="21600">
                <a:moveTo>
                  <a:pt x="0" y="0"/>
                </a:moveTo>
                <a:lnTo>
                  <a:pt x="21827" y="0"/>
                </a:lnTo>
                <a:lnTo>
                  <a:pt x="20427" y="1400"/>
                </a:lnTo>
                <a:lnTo>
                  <a:pt x="1400" y="1400"/>
                </a:lnTo>
                <a:close/>
              </a:path>
              <a:path fill="darken" w="21827" h="21600">
                <a:moveTo>
                  <a:pt x="21827" y="0"/>
                </a:moveTo>
                <a:lnTo>
                  <a:pt x="21827" y="21600"/>
                </a:lnTo>
                <a:lnTo>
                  <a:pt x="20427" y="20200"/>
                </a:lnTo>
                <a:lnTo>
                  <a:pt x="20427" y="1400"/>
                </a:lnTo>
                <a:close/>
              </a:path>
              <a:path fill="darkenLess" w="21827" h="21600">
                <a:moveTo>
                  <a:pt x="218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427" y="20200"/>
                </a:lnTo>
                <a:close/>
              </a:path>
              <a:path fill="lighten" w="218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459c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7">
            <a:hlinkClick r:id="rId2"/>
          </p:cNvPr>
          <p:cNvSpPr/>
          <p:nvPr/>
        </p:nvSpPr>
        <p:spPr>
          <a:xfrm>
            <a:off x="1716120" y="3855960"/>
            <a:ext cx="900000" cy="824040"/>
          </a:xfrm>
          <a:custGeom>
            <a:avLst/>
            <a:gdLst>
              <a:gd name="textAreaLeft" fmla="*/ 53280 w 900000"/>
              <a:gd name="textAreaRight" fmla="*/ 846720 w 900000"/>
              <a:gd name="textAreaTop" fmla="*/ 53280 h 824040"/>
              <a:gd name="textAreaBottom" fmla="*/ 770760 h 824040"/>
            </a:gdLst>
            <a:ahLst/>
            <a:rect l="textAreaLeft" t="textAreaTop" r="textAreaRight" b="textAreaBottom"/>
            <a:pathLst>
              <a:path w="23590" h="21600">
                <a:moveTo>
                  <a:pt x="0" y="0"/>
                </a:moveTo>
                <a:lnTo>
                  <a:pt x="23590" y="0"/>
                </a:lnTo>
                <a:lnTo>
                  <a:pt x="23590" y="21600"/>
                </a:lnTo>
                <a:lnTo>
                  <a:pt x="0" y="21600"/>
                </a:lnTo>
                <a:close/>
              </a:path>
              <a:path fill="lightenLess" w="23590" h="21600">
                <a:moveTo>
                  <a:pt x="0" y="0"/>
                </a:moveTo>
                <a:lnTo>
                  <a:pt x="23590" y="0"/>
                </a:lnTo>
                <a:lnTo>
                  <a:pt x="22190" y="1400"/>
                </a:lnTo>
                <a:lnTo>
                  <a:pt x="1400" y="1400"/>
                </a:lnTo>
                <a:close/>
              </a:path>
              <a:path fill="darken" w="23590" h="21600">
                <a:moveTo>
                  <a:pt x="23590" y="0"/>
                </a:moveTo>
                <a:lnTo>
                  <a:pt x="23590" y="21600"/>
                </a:lnTo>
                <a:lnTo>
                  <a:pt x="22190" y="20200"/>
                </a:lnTo>
                <a:lnTo>
                  <a:pt x="22190" y="1400"/>
                </a:lnTo>
                <a:close/>
              </a:path>
              <a:path fill="darkenLess" w="23590" h="21600">
                <a:moveTo>
                  <a:pt x="235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90" y="20200"/>
                </a:lnTo>
                <a:close/>
              </a:path>
              <a:path fill="lighten" w="235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8">
            <a:hlinkClick r:id="rId3"/>
          </p:cNvPr>
          <p:cNvSpPr/>
          <p:nvPr/>
        </p:nvSpPr>
        <p:spPr>
          <a:xfrm>
            <a:off x="1751040" y="5043600"/>
            <a:ext cx="880920" cy="909360"/>
          </a:xfrm>
          <a:custGeom>
            <a:avLst/>
            <a:gdLst>
              <a:gd name="textAreaLeft" fmla="*/ 56880 w 880920"/>
              <a:gd name="textAreaRight" fmla="*/ 824040 w 880920"/>
              <a:gd name="textAreaTop" fmla="*/ 56880 h 909360"/>
              <a:gd name="textAreaBottom" fmla="*/ 852480 h 909360"/>
            </a:gdLst>
            <a:ahLst/>
            <a:rect l="textAreaLeft" t="textAreaTop" r="textAreaRight" b="textAreaBottom"/>
            <a:pathLst>
              <a:path w="21600" h="22297">
                <a:moveTo>
                  <a:pt x="0" y="0"/>
                </a:moveTo>
                <a:lnTo>
                  <a:pt x="21600" y="0"/>
                </a:lnTo>
                <a:lnTo>
                  <a:pt x="21600" y="22297"/>
                </a:lnTo>
                <a:lnTo>
                  <a:pt x="0" y="22297"/>
                </a:lnTo>
                <a:close/>
              </a:path>
              <a:path fill="lightenLess" w="21600" h="222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97">
                <a:moveTo>
                  <a:pt x="21600" y="0"/>
                </a:moveTo>
                <a:lnTo>
                  <a:pt x="21600" y="22297"/>
                </a:lnTo>
                <a:lnTo>
                  <a:pt x="20200" y="20897"/>
                </a:lnTo>
                <a:lnTo>
                  <a:pt x="20200" y="1400"/>
                </a:lnTo>
                <a:close/>
              </a:path>
              <a:path fill="darkenLess" w="21600" h="22297">
                <a:moveTo>
                  <a:pt x="21600" y="22297"/>
                </a:moveTo>
                <a:lnTo>
                  <a:pt x="0" y="22297"/>
                </a:lnTo>
                <a:lnTo>
                  <a:pt x="1400" y="20897"/>
                </a:lnTo>
                <a:lnTo>
                  <a:pt x="20200" y="20897"/>
                </a:lnTo>
                <a:close/>
              </a:path>
              <a:path fill="lighten" w="21600" h="22297">
                <a:moveTo>
                  <a:pt x="0" y="222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9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febf7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5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543"/>
                    </p:tgtEl>
                  </p:cond>
                </p:stCondLst>
                <p:childTnLst>
                  <p:par>
                    <p:cTn id="127" nodeType="clickEffect" fill="hold">
                      <p:stCondLst>
                        <p:cond evt="onClick">
                          <p:tgtEl>
                            <p:spTgt spid="543"/>
                          </p:tgtEl>
                        </p:cond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0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evt="onClick">
                          <p:tgtEl>
                            <p:spTgt spid="543"/>
                          </p:tgtEl>
                        </p:cond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4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4" descr="220px-Обложка_Конституции_РСФСР_1918_года"/>
          <p:cNvPicPr/>
          <p:nvPr/>
        </p:nvPicPr>
        <p:blipFill>
          <a:blip r:embed="rId1"/>
          <a:stretch/>
        </p:blipFill>
        <p:spPr>
          <a:xfrm>
            <a:off x="250920" y="0"/>
            <a:ext cx="2408040" cy="3513240"/>
          </a:xfrm>
          <a:prstGeom prst="rect">
            <a:avLst/>
          </a:prstGeom>
          <a:ln w="0">
            <a:noFill/>
          </a:ln>
        </p:spPr>
      </p:pic>
      <p:sp>
        <p:nvSpPr>
          <p:cNvPr id="545" name="AutoShape 10"/>
          <p:cNvSpPr/>
          <p:nvPr/>
        </p:nvSpPr>
        <p:spPr>
          <a:xfrm>
            <a:off x="7962840" y="5800680"/>
            <a:ext cx="900000" cy="824040"/>
          </a:xfrm>
          <a:custGeom>
            <a:avLst/>
            <a:gdLst>
              <a:gd name="textAreaLeft" fmla="*/ 53280 w 900000"/>
              <a:gd name="textAreaRight" fmla="*/ 846720 w 900000"/>
              <a:gd name="textAreaTop" fmla="*/ 53280 h 824040"/>
              <a:gd name="textAreaBottom" fmla="*/ 770760 h 824040"/>
            </a:gdLst>
            <a:ahLst/>
            <a:rect l="textAreaLeft" t="textAreaTop" r="textAreaRight" b="textAreaBottom"/>
            <a:pathLst>
              <a:path w="23590" h="21600">
                <a:moveTo>
                  <a:pt x="0" y="0"/>
                </a:moveTo>
                <a:lnTo>
                  <a:pt x="23590" y="0"/>
                </a:lnTo>
                <a:lnTo>
                  <a:pt x="23590" y="21600"/>
                </a:lnTo>
                <a:lnTo>
                  <a:pt x="0" y="21600"/>
                </a:lnTo>
                <a:close/>
              </a:path>
              <a:path fill="lightenLess" w="23590" h="21600">
                <a:moveTo>
                  <a:pt x="0" y="0"/>
                </a:moveTo>
                <a:lnTo>
                  <a:pt x="23590" y="0"/>
                </a:lnTo>
                <a:lnTo>
                  <a:pt x="22190" y="1400"/>
                </a:lnTo>
                <a:lnTo>
                  <a:pt x="1400" y="1400"/>
                </a:lnTo>
                <a:close/>
              </a:path>
              <a:path fill="darken" w="23590" h="21600">
                <a:moveTo>
                  <a:pt x="23590" y="0"/>
                </a:moveTo>
                <a:lnTo>
                  <a:pt x="23590" y="21600"/>
                </a:lnTo>
                <a:lnTo>
                  <a:pt x="22190" y="20200"/>
                </a:lnTo>
                <a:lnTo>
                  <a:pt x="22190" y="1400"/>
                </a:lnTo>
                <a:close/>
              </a:path>
              <a:path fill="darkenLess" w="23590" h="21600">
                <a:moveTo>
                  <a:pt x="235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90" y="20200"/>
                </a:lnTo>
                <a:close/>
              </a:path>
              <a:path fill="lighten" w="235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90" h="21600">
                <a:moveTo>
                  <a:pt x="4789" y="7493"/>
                </a:moveTo>
                <a:lnTo>
                  <a:pt x="8296" y="7493"/>
                </a:lnTo>
                <a:lnTo>
                  <a:pt x="8296" y="12828"/>
                </a:lnTo>
                <a:cubicBezTo>
                  <a:pt x="8296" y="13751"/>
                  <a:pt x="9097" y="14482"/>
                  <a:pt x="10133" y="14482"/>
                </a:cubicBezTo>
                <a:lnTo>
                  <a:pt x="11795" y="14482"/>
                </a:lnTo>
                <a:cubicBezTo>
                  <a:pt x="12831" y="14482"/>
                  <a:pt x="13632" y="13751"/>
                  <a:pt x="13632" y="12828"/>
                </a:cubicBezTo>
                <a:lnTo>
                  <a:pt x="13632" y="7493"/>
                </a:lnTo>
                <a:lnTo>
                  <a:pt x="11795" y="7493"/>
                </a:lnTo>
                <a:lnTo>
                  <a:pt x="15303" y="3985"/>
                </a:lnTo>
                <a:lnTo>
                  <a:pt x="18976" y="7493"/>
                </a:lnTo>
                <a:lnTo>
                  <a:pt x="17139" y="7493"/>
                </a:lnTo>
                <a:lnTo>
                  <a:pt x="17139" y="12828"/>
                </a:lnTo>
                <a:cubicBezTo>
                  <a:pt x="17139" y="15596"/>
                  <a:pt x="14563" y="18155"/>
                  <a:pt x="11795" y="18155"/>
                </a:cubicBezTo>
                <a:lnTo>
                  <a:pt x="10133" y="18155"/>
                </a:lnTo>
                <a:cubicBezTo>
                  <a:pt x="7365" y="18155"/>
                  <a:pt x="4789" y="15596"/>
                  <a:pt x="4789" y="12828"/>
                </a:cubicBezTo>
                <a:close/>
              </a:path>
            </a:pathLst>
          </a:custGeom>
          <a:solidFill>
            <a:srgbClr val="ef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11" descr="12_const_1924"/>
          <p:cNvPicPr/>
          <p:nvPr/>
        </p:nvPicPr>
        <p:blipFill>
          <a:blip r:embed="rId2"/>
          <a:stretch/>
        </p:blipFill>
        <p:spPr>
          <a:xfrm>
            <a:off x="5745240" y="198360"/>
            <a:ext cx="2908080" cy="371340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12" descr="0017-014-Konstitutsija-RF"/>
          <p:cNvPicPr/>
          <p:nvPr/>
        </p:nvPicPr>
        <p:blipFill>
          <a:blip r:embed="rId3"/>
          <a:stretch/>
        </p:blipFill>
        <p:spPr>
          <a:xfrm>
            <a:off x="2835360" y="185760"/>
            <a:ext cx="2805120" cy="390996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13" descr="5509c7fc55971ad8eed3483677b"/>
          <p:cNvPicPr/>
          <p:nvPr/>
        </p:nvPicPr>
        <p:blipFill>
          <a:blip r:embed="rId4"/>
          <a:stretch/>
        </p:blipFill>
        <p:spPr>
          <a:xfrm>
            <a:off x="501480" y="2770200"/>
            <a:ext cx="2746440" cy="408780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15" descr="64588_original"/>
          <p:cNvPicPr/>
          <p:nvPr/>
        </p:nvPicPr>
        <p:blipFill>
          <a:blip r:embed="rId5"/>
          <a:stretch/>
        </p:blipFill>
        <p:spPr>
          <a:xfrm>
            <a:off x="4392720" y="3301920"/>
            <a:ext cx="2463840" cy="33670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1T10:35:24Z</dcterms:created>
  <dc:creator>1</dc:creator>
  <dc:description/>
  <dc:language>en-US</dc:language>
  <cp:lastModifiedBy>User</cp:lastModifiedBy>
  <dcterms:modified xsi:type="dcterms:W3CDTF">2020-12-07T04:46:02Z</dcterms:modified>
  <cp:revision>99</cp:revision>
  <dc:subject/>
  <dc:title>Слайд 1</dc:title>
</cp:coreProperties>
</file>